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5E8-BFFF-4256-9096-F9EE6934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8FC-7D26-4291-9C18-040DBF29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602-EEC9-47F5-BF18-1FE93FCF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534-0BD6-4FA5-9EA8-11E3D754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91B-A7C8-4F22-BA5D-C620CC28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DA8-28BE-4DFE-9F39-FE4FDD69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5EF-AB40-4D10-9D49-C9779F87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E03B-5647-40A6-B2EC-BA5D5D3A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192-3125-4839-BA4B-85A5F753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61D-9049-4E32-AA54-4CDD8C9E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DB1-55D2-44FA-A061-F2567F9A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E23-73CC-4627-A415-86A91326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C545-858E-4022-9C18-7A3947CD6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427880" y="6477120"/>
            <a:ext cx="17175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RMF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- 2004      </a:t>
            </a:r>
            <a:fld id="{344FAE6B-0E9C-4AF9-92AE-CAC5CF4CA339}" type="slidenum">
              <a:rPr b="1" i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136520" y="3747960"/>
            <a:ext cx="6710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résentation de la situation des placements mobili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7680" y="6858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mblée Générale des Délégu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6160" y="2782800"/>
            <a:ext cx="7859880" cy="54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00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304920"/>
            <a:ext cx="8061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rtefeuille investi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la CARMF au 31 décembre 200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hors trésorer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9200" y="5486400"/>
            <a:ext cx="84139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Une gestion de long terme comportant une exposition résolument forte en actions et en obligations converti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3760" y="4800600"/>
            <a:ext cx="7229520" cy="519120"/>
          </a:xfrm>
          <a:prstGeom prst="rect">
            <a:avLst/>
          </a:prstGeom>
          <a:solidFill>
            <a:srgbClr val="0000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ORTEFEUILLE TOTAL :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2,11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milliards d’euros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057400" y="609480"/>
          <a:ext cx="5786280" cy="41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09480"/>
                    <a:ext cx="5786280" cy="41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0" y="1752480"/>
            <a:ext cx="8991720" cy="2853360"/>
            <a:chOff x="0" y="1752480"/>
            <a:chExt cx="8991720" cy="2853360"/>
          </a:xfrm>
        </p:grpSpPr>
        <p:sp>
          <p:nvSpPr>
            <p:cNvPr id="51" name=""/>
            <p:cNvSpPr/>
            <p:nvPr/>
          </p:nvSpPr>
          <p:spPr>
            <a:xfrm>
              <a:off x="4021200" y="2011320"/>
              <a:ext cx="199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4,0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19680" y="3433680"/>
              <a:ext cx="1703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3,1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38640" y="3382920"/>
              <a:ext cx="1753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8,2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81360" y="2374920"/>
              <a:ext cx="1447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0808"/>
                  </a:solidFill>
                  <a:latin typeface="Arial"/>
                </a:rPr>
                <a:t>4,0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600960" y="1752480"/>
              <a:ext cx="17049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"/>
                </a:rPr>
                <a:t>AC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6320" y="3733920"/>
              <a:ext cx="24354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OBLIG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CONVERTIB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4080" y="4178160"/>
              <a:ext cx="22132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ff00"/>
                  </a:solidFill>
                  <a:latin typeface="Arial"/>
                </a:rPr>
                <a:t>OBLIG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577960"/>
              <a:ext cx="259092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99ff"/>
                  </a:solidFill>
                  <a:latin typeface="Arial"/>
                </a:rPr>
                <a:t>SICA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99ff"/>
                  </a:solidFill>
                  <a:latin typeface="Arial"/>
                </a:rPr>
                <a:t>MONÉTAIR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99ff"/>
                  </a:solidFill>
                  <a:latin typeface="Arial"/>
                </a:rPr>
                <a:t>0,7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3200" y="1803240"/>
              <a:ext cx="23400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ffff"/>
                  </a:solidFill>
                  <a:latin typeface="Arial"/>
                </a:rPr>
                <a:t>GES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ffff"/>
                  </a:solidFill>
                  <a:latin typeface="Arial"/>
                </a:rPr>
                <a:t>ALTERNATIV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0" y="75960"/>
            <a:ext cx="9142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globale du portefeuill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la CARM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 Année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9960" y="1981080"/>
            <a:ext cx="861084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380880"/>
                <a:tab algn="r" pos="81025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ONS 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,53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380880"/>
                <a:tab algn="r" pos="810252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380880"/>
                <a:tab algn="r" pos="81025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TIONS CONVERTIBLES 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,59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380880"/>
                <a:tab algn="r" pos="810252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380880"/>
                <a:tab algn="r" pos="81025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TION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 TRÉSORERIE DYNAMIQUE 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,73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380880"/>
                <a:tab algn="r" pos="810252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380880"/>
                <a:tab algn="r" pos="81025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RNATIF 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,85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295280"/>
            <a:ext cx="8477280" cy="1250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3818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ORMANCE GLOBALE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1,50 %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8120" y="4498920"/>
            <a:ext cx="84009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8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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s  performances sont à comparer à un taux d'inflation (France) de 2,1 % sur l'année 200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8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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 noter  qu'un  placement  monétaire  aurait rapporté 2,19 % sur l'année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177840"/>
            <a:ext cx="83664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s taux à 10 ans France - Etats-Unis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epuis le 1er janvier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0840" y="1130400"/>
            <a:ext cx="33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 15 septembre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92040" y="1658880"/>
            <a:ext cx="8337600" cy="5156280"/>
            <a:chOff x="392040" y="1658880"/>
            <a:chExt cx="8337600" cy="5156280"/>
          </a:xfrm>
        </p:grpSpPr>
        <p:sp>
          <p:nvSpPr>
            <p:cNvPr id="67" name=""/>
            <p:cNvSpPr/>
            <p:nvPr/>
          </p:nvSpPr>
          <p:spPr>
            <a:xfrm>
              <a:off x="392040" y="1658880"/>
              <a:ext cx="8337600" cy="51562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6f57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9640" y="1859040"/>
              <a:ext cx="1440" cy="4286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9640" y="6145200"/>
              <a:ext cx="44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9640" y="5719680"/>
              <a:ext cx="44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9640" y="5284800"/>
              <a:ext cx="44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09640" y="4859280"/>
              <a:ext cx="44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9640" y="4432320"/>
              <a:ext cx="44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9640" y="3997440"/>
              <a:ext cx="44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9640" y="3571920"/>
              <a:ext cx="44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9640" y="3146400"/>
              <a:ext cx="44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9640" y="2719440"/>
              <a:ext cx="44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9640" y="2286000"/>
              <a:ext cx="44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640" y="1859040"/>
              <a:ext cx="44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9640" y="6145200"/>
              <a:ext cx="7642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09640" y="6102000"/>
              <a:ext cx="1440" cy="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557360" y="6102000"/>
              <a:ext cx="1440" cy="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305080" y="6102000"/>
              <a:ext cx="1440" cy="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044880" y="6102000"/>
              <a:ext cx="1440" cy="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792600" y="6102000"/>
              <a:ext cx="1440" cy="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540320" y="6102000"/>
              <a:ext cx="1440" cy="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286240" y="6102000"/>
              <a:ext cx="1800" cy="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033960" y="6102000"/>
              <a:ext cx="1800" cy="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773760" y="6102000"/>
              <a:ext cx="1800" cy="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7521480" y="6102000"/>
              <a:ext cx="1800" cy="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269200" y="6102000"/>
              <a:ext cx="1800" cy="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9000" y="4371840"/>
              <a:ext cx="792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26920" y="3929040"/>
              <a:ext cx="17640" cy="44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44560" y="3919680"/>
              <a:ext cx="936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53920" y="3867120"/>
              <a:ext cx="34920" cy="52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8840" y="3867120"/>
              <a:ext cx="16200" cy="8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5040" y="3954600"/>
              <a:ext cx="9360" cy="8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914400" y="3641400"/>
              <a:ext cx="7920" cy="399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22320" y="3641760"/>
              <a:ext cx="1764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39960" y="3684600"/>
              <a:ext cx="34920" cy="44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74880" y="3728880"/>
              <a:ext cx="9360" cy="86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84240" y="3814920"/>
              <a:ext cx="1764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001880" y="3841920"/>
              <a:ext cx="792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09800" y="3841920"/>
              <a:ext cx="17280" cy="129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27080" y="3971880"/>
              <a:ext cx="3492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62000" y="3971880"/>
              <a:ext cx="9720" cy="52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71720" y="4024440"/>
              <a:ext cx="15840" cy="137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087560" y="4111200"/>
              <a:ext cx="9360" cy="50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96920" y="4111560"/>
              <a:ext cx="7920" cy="85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104840" y="4094280"/>
              <a:ext cx="44640" cy="102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149480" y="4049640"/>
              <a:ext cx="7920" cy="4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157400" y="3928680"/>
              <a:ext cx="9360" cy="120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66760" y="3929040"/>
              <a:ext cx="17640" cy="95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84400" y="4024440"/>
              <a:ext cx="7920" cy="2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192320" y="4014360"/>
              <a:ext cx="4428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36600" y="4014720"/>
              <a:ext cx="7920" cy="139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244520" y="4006800"/>
              <a:ext cx="972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54240" y="4006800"/>
              <a:ext cx="1584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70080" y="4119480"/>
              <a:ext cx="936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279440" y="4049280"/>
              <a:ext cx="3492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14360" y="4049640"/>
              <a:ext cx="17640" cy="4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32000" y="4094280"/>
              <a:ext cx="7920" cy="85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39920" y="4179960"/>
              <a:ext cx="1728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357200" y="4154040"/>
              <a:ext cx="9720" cy="17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66920" y="4154400"/>
              <a:ext cx="3492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01840" y="4154400"/>
              <a:ext cx="1728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19120" y="4154400"/>
              <a:ext cx="7920" cy="13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27040" y="4284720"/>
              <a:ext cx="9720" cy="77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436760" y="4258800"/>
              <a:ext cx="15840" cy="103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52600" y="4259160"/>
              <a:ext cx="3492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87520" y="4371840"/>
              <a:ext cx="9360" cy="6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96880" y="4432320"/>
              <a:ext cx="17640" cy="8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14520" y="4519440"/>
              <a:ext cx="792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2440" y="4554360"/>
              <a:ext cx="17280" cy="13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39720" y="4684680"/>
              <a:ext cx="3492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74640" y="4684680"/>
              <a:ext cx="972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84360" y="4754520"/>
              <a:ext cx="1728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601640" y="4744800"/>
              <a:ext cx="7920" cy="52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9560" y="4745160"/>
              <a:ext cx="17640" cy="61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27200" y="4807080"/>
              <a:ext cx="34920" cy="102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1662120" y="4884840"/>
              <a:ext cx="7920" cy="2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670040" y="4874760"/>
              <a:ext cx="176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687680" y="4572000"/>
              <a:ext cx="9360" cy="303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97040" y="4572000"/>
              <a:ext cx="7920" cy="52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704960" y="4397040"/>
              <a:ext cx="44640" cy="227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749600" y="4214520"/>
              <a:ext cx="7920" cy="182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757520" y="4067280"/>
              <a:ext cx="936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766880" y="3989520"/>
              <a:ext cx="17640" cy="77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784520" y="3789360"/>
              <a:ext cx="7920" cy="200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92440" y="3789360"/>
              <a:ext cx="34920" cy="27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7360" y="4059360"/>
              <a:ext cx="17280" cy="2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44640" y="4084560"/>
              <a:ext cx="792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52560" y="4119480"/>
              <a:ext cx="1764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70200" y="4154400"/>
              <a:ext cx="9360" cy="6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79560" y="4214880"/>
              <a:ext cx="34920" cy="164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914480" y="4362480"/>
              <a:ext cx="17640" cy="17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932120" y="4137120"/>
              <a:ext cx="7920" cy="225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40040" y="4137120"/>
              <a:ext cx="936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949400" y="4119480"/>
              <a:ext cx="17640" cy="6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967040" y="3962520"/>
              <a:ext cx="33120" cy="156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00160" y="3962520"/>
              <a:ext cx="17640" cy="17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17800" y="4137120"/>
              <a:ext cx="936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027160" y="4137120"/>
              <a:ext cx="792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035080" y="4041360"/>
              <a:ext cx="17640" cy="95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052720" y="3954600"/>
              <a:ext cx="34920" cy="8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87640" y="3954600"/>
              <a:ext cx="9360" cy="104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97000" y="4059360"/>
              <a:ext cx="1764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14640" y="4084560"/>
              <a:ext cx="7920" cy="4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22560" y="4084560"/>
              <a:ext cx="1728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139840" y="4032000"/>
              <a:ext cx="34920" cy="52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74760" y="4032360"/>
              <a:ext cx="79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182680" y="4006440"/>
              <a:ext cx="17640" cy="25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0320" y="4006800"/>
              <a:ext cx="9360" cy="190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09680" y="4197240"/>
              <a:ext cx="7920" cy="4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217600" y="4214520"/>
              <a:ext cx="44640" cy="27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262240" y="4145040"/>
              <a:ext cx="792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70160" y="4145040"/>
              <a:ext cx="9360" cy="156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79520" y="4302000"/>
              <a:ext cx="176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297160" y="4179960"/>
              <a:ext cx="7920" cy="13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5080" y="4179960"/>
              <a:ext cx="44280" cy="61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49360" y="4241880"/>
              <a:ext cx="792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57280" y="4414680"/>
              <a:ext cx="7920" cy="244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5200" y="4659480"/>
              <a:ext cx="1764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382840" y="4692240"/>
              <a:ext cx="936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92200" y="4692600"/>
              <a:ext cx="34920" cy="104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27120" y="4797360"/>
              <a:ext cx="17640" cy="4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44760" y="4842000"/>
              <a:ext cx="7920" cy="182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52680" y="5024520"/>
              <a:ext cx="176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70320" y="5024520"/>
              <a:ext cx="9360" cy="164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79680" y="5189400"/>
              <a:ext cx="34920" cy="25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14600" y="5214960"/>
              <a:ext cx="17640" cy="157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532240" y="5337000"/>
              <a:ext cx="7920" cy="3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40160" y="5337000"/>
              <a:ext cx="7920" cy="113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48080" y="5450040"/>
              <a:ext cx="1728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65360" y="5457960"/>
              <a:ext cx="349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600280" y="5310360"/>
              <a:ext cx="972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610000" y="5249880"/>
              <a:ext cx="17280" cy="6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27280" y="5249880"/>
              <a:ext cx="7920" cy="200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635200" y="5422680"/>
              <a:ext cx="17640" cy="27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652840" y="5232240"/>
              <a:ext cx="34920" cy="19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87760" y="5232240"/>
              <a:ext cx="9360" cy="182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97120" y="5415120"/>
              <a:ext cx="17640" cy="104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714760" y="5432040"/>
              <a:ext cx="7920" cy="8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722680" y="5389200"/>
              <a:ext cx="1728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39960" y="5389560"/>
              <a:ext cx="34920" cy="155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74880" y="5545080"/>
              <a:ext cx="7920" cy="192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82800" y="5737320"/>
              <a:ext cx="176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00440" y="5745240"/>
              <a:ext cx="936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09800" y="5788080"/>
              <a:ext cx="7920" cy="13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817720" y="5780160"/>
              <a:ext cx="44640" cy="139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862360" y="5587920"/>
              <a:ext cx="7920" cy="192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870280" y="5379840"/>
              <a:ext cx="9360" cy="207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79640" y="5380200"/>
              <a:ext cx="1764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897280" y="5302080"/>
              <a:ext cx="7920" cy="113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05200" y="5302080"/>
              <a:ext cx="34920" cy="165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40120" y="5467320"/>
              <a:ext cx="1728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957400" y="5379840"/>
              <a:ext cx="7920" cy="199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965320" y="5006520"/>
              <a:ext cx="17640" cy="373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982960" y="4927680"/>
              <a:ext cx="9360" cy="79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92320" y="4927680"/>
              <a:ext cx="34920" cy="8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3027240" y="4962240"/>
              <a:ext cx="17640" cy="52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4880" y="4962600"/>
              <a:ext cx="792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052800" y="4762080"/>
              <a:ext cx="9360" cy="235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62160" y="4762440"/>
              <a:ext cx="1764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079800" y="4632120"/>
              <a:ext cx="33120" cy="129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112920" y="4579920"/>
              <a:ext cx="17640" cy="52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30560" y="4579920"/>
              <a:ext cx="9360" cy="52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39920" y="4632480"/>
              <a:ext cx="7920" cy="52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47840" y="4684680"/>
              <a:ext cx="17640" cy="8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165480" y="4614480"/>
              <a:ext cx="34920" cy="157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200400" y="4189320"/>
              <a:ext cx="9360" cy="425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209760" y="4119480"/>
              <a:ext cx="1764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227400" y="4102200"/>
              <a:ext cx="7920" cy="17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35320" y="4066920"/>
              <a:ext cx="1764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252960" y="3631680"/>
              <a:ext cx="34920" cy="435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87880" y="3632040"/>
              <a:ext cx="7920" cy="52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95800" y="3684600"/>
              <a:ext cx="17280" cy="95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13080" y="3641760"/>
              <a:ext cx="9720" cy="13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322800" y="3623760"/>
              <a:ext cx="7920" cy="17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330720" y="3389400"/>
              <a:ext cx="44280" cy="23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375000" y="3146040"/>
              <a:ext cx="7920" cy="243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82920" y="3146400"/>
              <a:ext cx="9720" cy="182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392640" y="2981160"/>
              <a:ext cx="17280" cy="347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09920" y="2981160"/>
              <a:ext cx="7920" cy="13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7840" y="3111480"/>
              <a:ext cx="34920" cy="200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452760" y="3058920"/>
              <a:ext cx="17640" cy="252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70400" y="3059280"/>
              <a:ext cx="7920" cy="330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78320" y="3389400"/>
              <a:ext cx="17280" cy="122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95600" y="3511440"/>
              <a:ext cx="972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505320" y="3354120"/>
              <a:ext cx="34920" cy="199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40240" y="3354480"/>
              <a:ext cx="1728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557520" y="2936520"/>
              <a:ext cx="7920" cy="452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565440" y="2893680"/>
              <a:ext cx="1764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83080" y="2894040"/>
              <a:ext cx="936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92440" y="3006720"/>
              <a:ext cx="34920" cy="139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27360" y="3146400"/>
              <a:ext cx="15840" cy="225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643200" y="3241440"/>
              <a:ext cx="9720" cy="129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652920" y="3084120"/>
              <a:ext cx="7920" cy="157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60840" y="3084480"/>
              <a:ext cx="17280" cy="104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678120" y="3051000"/>
              <a:ext cx="34920" cy="13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13040" y="3051000"/>
              <a:ext cx="9720" cy="68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722760" y="3015720"/>
              <a:ext cx="17280" cy="103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40040" y="3016080"/>
              <a:ext cx="7920" cy="233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747960" y="3181320"/>
              <a:ext cx="17640" cy="68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765600" y="3033720"/>
              <a:ext cx="3492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00520" y="2711160"/>
              <a:ext cx="9360" cy="322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809880" y="2180880"/>
            <a:ext cx="3424320" cy="2497320"/>
            <a:chOff x="3809880" y="2180880"/>
            <a:chExt cx="3424320" cy="2497320"/>
          </a:xfrm>
        </p:grpSpPr>
        <p:sp>
          <p:nvSpPr>
            <p:cNvPr id="268" name=""/>
            <p:cNvSpPr/>
            <p:nvPr/>
          </p:nvSpPr>
          <p:spPr>
            <a:xfrm>
              <a:off x="3809880" y="2711520"/>
              <a:ext cx="158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25720" y="2719440"/>
              <a:ext cx="9720" cy="191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35440" y="2911320"/>
              <a:ext cx="7920" cy="338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843360" y="3171960"/>
              <a:ext cx="44280" cy="77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87640" y="3171960"/>
              <a:ext cx="7920" cy="44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95560" y="3216240"/>
              <a:ext cx="17640" cy="208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913200" y="3294000"/>
              <a:ext cx="9360" cy="13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22560" y="3294000"/>
              <a:ext cx="7920" cy="13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30480" y="3432240"/>
              <a:ext cx="44640" cy="44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3975120" y="3371400"/>
              <a:ext cx="7920" cy="104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83040" y="3371760"/>
              <a:ext cx="9360" cy="217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92400" y="3589200"/>
              <a:ext cx="16200" cy="17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08600" y="3606840"/>
              <a:ext cx="9360" cy="52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017960" y="3484080"/>
              <a:ext cx="34920" cy="17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52880" y="3484440"/>
              <a:ext cx="17640" cy="61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70520" y="3546360"/>
              <a:ext cx="7920" cy="165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78440" y="3711600"/>
              <a:ext cx="17280" cy="77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95720" y="3789360"/>
              <a:ext cx="9720" cy="165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105440" y="3841560"/>
              <a:ext cx="3492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40360" y="3841920"/>
              <a:ext cx="17280" cy="29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57640" y="4137120"/>
              <a:ext cx="7920" cy="17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4165560" y="3989520"/>
              <a:ext cx="9720" cy="164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175280" y="3589200"/>
              <a:ext cx="15840" cy="40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1120" y="3589200"/>
              <a:ext cx="34920" cy="95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226040" y="3476520"/>
              <a:ext cx="9360" cy="208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35400" y="3476520"/>
              <a:ext cx="176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253040" y="3354120"/>
              <a:ext cx="7920" cy="129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60960" y="3354480"/>
              <a:ext cx="1728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78240" y="3467160"/>
              <a:ext cx="349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313160" y="3259080"/>
              <a:ext cx="9720" cy="208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322880" y="3146040"/>
              <a:ext cx="1728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340160" y="3024000"/>
              <a:ext cx="7920" cy="122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48080" y="3024360"/>
              <a:ext cx="1764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65720" y="3171960"/>
              <a:ext cx="34920" cy="17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00640" y="3189240"/>
              <a:ext cx="792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08560" y="3224160"/>
              <a:ext cx="17280" cy="192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4425840" y="3319200"/>
              <a:ext cx="9720" cy="96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35560" y="3319560"/>
              <a:ext cx="7920" cy="22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443480" y="3431880"/>
              <a:ext cx="44280" cy="11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87760" y="3432240"/>
              <a:ext cx="7920" cy="166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4495680" y="3406680"/>
              <a:ext cx="9720" cy="192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505400" y="3276360"/>
              <a:ext cx="17280" cy="129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22680" y="3276720"/>
              <a:ext cx="7920" cy="8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530600" y="3216240"/>
              <a:ext cx="3492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65520" y="3216240"/>
              <a:ext cx="17640" cy="13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4583160" y="3249360"/>
              <a:ext cx="7920" cy="96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4591080" y="3111480"/>
              <a:ext cx="17280" cy="138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608360" y="3041640"/>
              <a:ext cx="972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4618080" y="3015720"/>
              <a:ext cx="34920" cy="25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53000" y="3016080"/>
              <a:ext cx="1728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70280" y="3016080"/>
              <a:ext cx="7920" cy="103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78200" y="3119400"/>
              <a:ext cx="1764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95840" y="3424320"/>
              <a:ext cx="9360" cy="139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05200" y="3564000"/>
              <a:ext cx="33480" cy="77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38680" y="3641760"/>
              <a:ext cx="17640" cy="52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756320" y="3546360"/>
              <a:ext cx="936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65680" y="3546360"/>
              <a:ext cx="7920" cy="165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73600" y="3711600"/>
              <a:ext cx="17640" cy="2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791240" y="3564000"/>
              <a:ext cx="3492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26160" y="3564000"/>
              <a:ext cx="9360" cy="85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835520" y="3519360"/>
              <a:ext cx="17640" cy="13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53160" y="3519360"/>
              <a:ext cx="792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861080" y="3363840"/>
              <a:ext cx="17280" cy="155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878360" y="3154320"/>
              <a:ext cx="34920" cy="209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13280" y="3154320"/>
              <a:ext cx="792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921200" y="3119400"/>
              <a:ext cx="1764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38840" y="3119400"/>
              <a:ext cx="9360" cy="8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48200" y="3206880"/>
              <a:ext cx="7920" cy="33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956120" y="3406680"/>
              <a:ext cx="44640" cy="139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00760" y="3241800"/>
              <a:ext cx="7920" cy="164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08680" y="3241800"/>
              <a:ext cx="17280" cy="8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5960" y="3328920"/>
              <a:ext cx="9720" cy="155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35680" y="3476520"/>
              <a:ext cx="792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43600" y="3416040"/>
              <a:ext cx="44280" cy="60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87880" y="3416400"/>
              <a:ext cx="7920" cy="85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95800" y="3502080"/>
              <a:ext cx="7920" cy="8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03720" y="3589200"/>
              <a:ext cx="17640" cy="104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21360" y="3693960"/>
              <a:ext cx="9360" cy="25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130720" y="3649680"/>
              <a:ext cx="3492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165640" y="3424320"/>
              <a:ext cx="17640" cy="225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83280" y="3424320"/>
              <a:ext cx="792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91200" y="3571920"/>
              <a:ext cx="172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08480" y="3571920"/>
              <a:ext cx="9720" cy="104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218200" y="3501720"/>
              <a:ext cx="34920" cy="17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253120" y="3398400"/>
              <a:ext cx="17280" cy="103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70400" y="3398760"/>
              <a:ext cx="792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78320" y="3441600"/>
              <a:ext cx="792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286240" y="3198960"/>
              <a:ext cx="17640" cy="242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303880" y="3171600"/>
              <a:ext cx="34920" cy="27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38800" y="3171960"/>
              <a:ext cx="9360" cy="22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48160" y="3398760"/>
              <a:ext cx="17640" cy="77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365800" y="3467160"/>
              <a:ext cx="792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73720" y="3467160"/>
              <a:ext cx="17280" cy="347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91000" y="3814920"/>
              <a:ext cx="3492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25920" y="3824280"/>
              <a:ext cx="972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35640" y="3936960"/>
              <a:ext cx="17280" cy="95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52920" y="4032360"/>
              <a:ext cx="7920" cy="27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5460840" y="3971520"/>
              <a:ext cx="17640" cy="8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78480" y="3971880"/>
              <a:ext cx="3492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513400" y="3876840"/>
              <a:ext cx="7920" cy="9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521320" y="3876840"/>
              <a:ext cx="17640" cy="52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38960" y="3929040"/>
              <a:ext cx="9360" cy="13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548320" y="3849840"/>
              <a:ext cx="7920" cy="209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5556240" y="3693600"/>
              <a:ext cx="44640" cy="15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00880" y="3693960"/>
              <a:ext cx="7920" cy="120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608800" y="3580920"/>
              <a:ext cx="9360" cy="233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18160" y="3581280"/>
              <a:ext cx="1764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35800" y="3581280"/>
              <a:ext cx="7920" cy="13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643720" y="3676320"/>
              <a:ext cx="3492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78640" y="3676680"/>
              <a:ext cx="17280" cy="103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695920" y="3736800"/>
              <a:ext cx="7920" cy="43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703840" y="3631680"/>
              <a:ext cx="17640" cy="104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21480" y="3632040"/>
              <a:ext cx="9360" cy="182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30840" y="3814920"/>
              <a:ext cx="34920" cy="44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765760" y="3780000"/>
              <a:ext cx="17640" cy="79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83400" y="3780000"/>
              <a:ext cx="7920" cy="17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5791320" y="3866760"/>
              <a:ext cx="17280" cy="8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08600" y="3867120"/>
              <a:ext cx="972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18320" y="3936960"/>
              <a:ext cx="3312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51440" y="3936960"/>
              <a:ext cx="176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869080" y="3936600"/>
              <a:ext cx="936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78440" y="3936960"/>
              <a:ext cx="792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886360" y="3831840"/>
              <a:ext cx="17640" cy="104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04000" y="3832200"/>
              <a:ext cx="34920" cy="96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38920" y="3929040"/>
              <a:ext cx="9360" cy="50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48280" y="3979800"/>
              <a:ext cx="17640" cy="27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965920" y="3946320"/>
              <a:ext cx="7920" cy="60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73840" y="3946680"/>
              <a:ext cx="17280" cy="129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991120" y="4014720"/>
              <a:ext cx="34920" cy="61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6026040" y="3901680"/>
              <a:ext cx="792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033960" y="3876840"/>
              <a:ext cx="17640" cy="2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51600" y="3876840"/>
              <a:ext cx="9360" cy="60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60960" y="3936960"/>
              <a:ext cx="7920" cy="41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68880" y="4354560"/>
              <a:ext cx="44640" cy="122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13520" y="4476600"/>
              <a:ext cx="7920" cy="13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121440" y="4571640"/>
              <a:ext cx="936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130800" y="4544640"/>
              <a:ext cx="17640" cy="27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148440" y="4509720"/>
              <a:ext cx="792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156360" y="4494240"/>
              <a:ext cx="42840" cy="15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99200" y="4494240"/>
              <a:ext cx="9360" cy="182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08560" y="4676760"/>
              <a:ext cx="79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216480" y="4537080"/>
              <a:ext cx="17640" cy="139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234120" y="4449240"/>
              <a:ext cx="9360" cy="8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43480" y="4449600"/>
              <a:ext cx="34920" cy="14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78400" y="4589640"/>
              <a:ext cx="17640" cy="2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296040" y="4606920"/>
              <a:ext cx="792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303960" y="4554360"/>
              <a:ext cx="17640" cy="52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321600" y="4336920"/>
              <a:ext cx="9360" cy="217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30960" y="4231800"/>
              <a:ext cx="34920" cy="104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365880" y="4206960"/>
              <a:ext cx="15840" cy="2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81720" y="4206960"/>
              <a:ext cx="9720" cy="137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391440" y="4214520"/>
              <a:ext cx="7920" cy="129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399360" y="3693600"/>
              <a:ext cx="17280" cy="52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416640" y="3529080"/>
              <a:ext cx="34920" cy="164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51560" y="3529080"/>
              <a:ext cx="9720" cy="102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61280" y="3632040"/>
              <a:ext cx="1728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6478560" y="3571920"/>
              <a:ext cx="792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86480" y="3571920"/>
              <a:ext cx="176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6504120" y="3511440"/>
              <a:ext cx="34920" cy="6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6539040" y="3266640"/>
              <a:ext cx="9360" cy="244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548400" y="3181320"/>
              <a:ext cx="15840" cy="85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564240" y="3136680"/>
              <a:ext cx="9720" cy="44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73960" y="3137040"/>
              <a:ext cx="1728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591240" y="3198600"/>
              <a:ext cx="34920" cy="50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626160" y="3111120"/>
              <a:ext cx="7920" cy="8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6634080" y="3084120"/>
              <a:ext cx="17640" cy="27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51720" y="3084480"/>
              <a:ext cx="9360" cy="122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661080" y="3033360"/>
              <a:ext cx="7920" cy="17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69000" y="3033720"/>
              <a:ext cx="4464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13640" y="3076560"/>
              <a:ext cx="7920" cy="52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721560" y="2998800"/>
              <a:ext cx="9360" cy="13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6730920" y="2841120"/>
              <a:ext cx="15840" cy="157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6760" y="2841480"/>
              <a:ext cx="9720" cy="8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56480" y="2928960"/>
              <a:ext cx="349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791400" y="2833200"/>
              <a:ext cx="17280" cy="95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808680" y="2771640"/>
              <a:ext cx="7920" cy="61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816600" y="2701800"/>
              <a:ext cx="1764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834240" y="2354040"/>
              <a:ext cx="9360" cy="347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843600" y="2320560"/>
              <a:ext cx="34920" cy="33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78520" y="2320920"/>
              <a:ext cx="17640" cy="33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896160" y="2293920"/>
              <a:ext cx="7920" cy="6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6904080" y="2180880"/>
              <a:ext cx="936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13440" y="2181240"/>
              <a:ext cx="15840" cy="13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929280" y="2311560"/>
              <a:ext cx="34920" cy="182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964200" y="2424240"/>
              <a:ext cx="1764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6981840" y="2320560"/>
              <a:ext cx="9360" cy="103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1200" y="2320920"/>
              <a:ext cx="7920" cy="198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6999120" y="2424240"/>
              <a:ext cx="17640" cy="9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6760" y="2424240"/>
              <a:ext cx="3492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51680" y="2459160"/>
              <a:ext cx="936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61040" y="2494080"/>
              <a:ext cx="1764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78680" y="2606760"/>
              <a:ext cx="7920" cy="17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086600" y="2633760"/>
              <a:ext cx="1764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04240" y="2633760"/>
              <a:ext cx="349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139160" y="2494080"/>
              <a:ext cx="7920" cy="139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147080" y="2441520"/>
              <a:ext cx="17280" cy="52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64360" y="2441520"/>
              <a:ext cx="972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174080" y="2346120"/>
              <a:ext cx="7920" cy="129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82000" y="2346480"/>
              <a:ext cx="44280" cy="2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226280" y="2354400"/>
              <a:ext cx="7920" cy="17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819000" y="2145960"/>
            <a:ext cx="7623360" cy="2929320"/>
            <a:chOff x="819000" y="2145960"/>
            <a:chExt cx="7623360" cy="2929320"/>
          </a:xfrm>
        </p:grpSpPr>
        <p:sp>
          <p:nvSpPr>
            <p:cNvPr id="469" name=""/>
            <p:cNvSpPr/>
            <p:nvPr/>
          </p:nvSpPr>
          <p:spPr>
            <a:xfrm flipV="1">
              <a:off x="7234200" y="2268000"/>
              <a:ext cx="9720" cy="86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43920" y="2268360"/>
              <a:ext cx="17280" cy="43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61200" y="2311560"/>
              <a:ext cx="79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69120" y="2145960"/>
              <a:ext cx="42840" cy="165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11960" y="2146320"/>
              <a:ext cx="9720" cy="38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7321680" y="2441160"/>
              <a:ext cx="7920" cy="8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29600" y="2441520"/>
              <a:ext cx="17280" cy="77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7346880" y="2486160"/>
              <a:ext cx="9720" cy="33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56600" y="2486160"/>
              <a:ext cx="34920" cy="33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391520" y="2494080"/>
              <a:ext cx="17280" cy="2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08800" y="2494080"/>
              <a:ext cx="792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16720" y="2503440"/>
              <a:ext cx="17640" cy="120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7434360" y="2616120"/>
              <a:ext cx="936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7443720" y="2423880"/>
              <a:ext cx="33480" cy="191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77200" y="2424240"/>
              <a:ext cx="17280" cy="8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494480" y="2511360"/>
              <a:ext cx="9720" cy="17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04200" y="2685960"/>
              <a:ext cx="792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12120" y="2798640"/>
              <a:ext cx="17280" cy="208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29400" y="3006720"/>
              <a:ext cx="349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564320" y="2980800"/>
              <a:ext cx="9720" cy="25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74040" y="2981160"/>
              <a:ext cx="17280" cy="8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91320" y="2989440"/>
              <a:ext cx="792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99240" y="2998800"/>
              <a:ext cx="176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16880" y="3006720"/>
              <a:ext cx="34920" cy="44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7651800" y="2971800"/>
              <a:ext cx="7920" cy="79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659720" y="2963880"/>
              <a:ext cx="1728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677000" y="2963880"/>
              <a:ext cx="97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86720" y="2963880"/>
              <a:ext cx="17280" cy="27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04000" y="3233880"/>
              <a:ext cx="349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738920" y="3051000"/>
              <a:ext cx="7920" cy="182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746840" y="2963880"/>
              <a:ext cx="17640" cy="8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64480" y="2963880"/>
              <a:ext cx="9360" cy="52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3840" y="3016080"/>
              <a:ext cx="7920" cy="6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781760" y="2989440"/>
              <a:ext cx="44640" cy="8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826400" y="2728800"/>
              <a:ext cx="7920" cy="260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834320" y="2728800"/>
              <a:ext cx="7920" cy="17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842240" y="2746440"/>
              <a:ext cx="17640" cy="2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859880" y="2771640"/>
              <a:ext cx="9360" cy="209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69240" y="2981160"/>
              <a:ext cx="34920" cy="52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904160" y="3033720"/>
              <a:ext cx="17640" cy="6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921800" y="3084120"/>
              <a:ext cx="792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929720" y="3084480"/>
              <a:ext cx="17280" cy="61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47000" y="3146400"/>
              <a:ext cx="9720" cy="390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956720" y="3476520"/>
              <a:ext cx="34920" cy="6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991640" y="3389400"/>
              <a:ext cx="17280" cy="8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08920" y="3389400"/>
              <a:ext cx="7920" cy="17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16840" y="3406680"/>
              <a:ext cx="7920" cy="6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024760" y="3467160"/>
              <a:ext cx="17640" cy="8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8042400" y="3459240"/>
              <a:ext cx="34920" cy="9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77320" y="3459240"/>
              <a:ext cx="17280" cy="112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8094600" y="3528720"/>
              <a:ext cx="972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104320" y="3529080"/>
              <a:ext cx="7920" cy="2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8112240" y="3519000"/>
              <a:ext cx="1728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8129520" y="3416400"/>
              <a:ext cx="34920" cy="102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8164440" y="3406320"/>
              <a:ext cx="972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74160" y="3406680"/>
              <a:ext cx="1728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91440" y="3449520"/>
              <a:ext cx="792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99360" y="3519360"/>
              <a:ext cx="1764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17000" y="3519360"/>
              <a:ext cx="34920" cy="79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251920" y="3598920"/>
              <a:ext cx="7920" cy="137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259840" y="3736800"/>
              <a:ext cx="1728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8277120" y="3589200"/>
              <a:ext cx="972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8286840" y="3381120"/>
              <a:ext cx="7920" cy="207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294760" y="3381480"/>
              <a:ext cx="442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339040" y="3381480"/>
              <a:ext cx="7920" cy="102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346960" y="3484440"/>
              <a:ext cx="9720" cy="165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8356680" y="3581280"/>
              <a:ext cx="17280" cy="68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73960" y="3581280"/>
              <a:ext cx="7920" cy="33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381880" y="3614760"/>
              <a:ext cx="34920" cy="61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416800" y="3676680"/>
              <a:ext cx="17640" cy="42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8434440" y="3641760"/>
              <a:ext cx="7920" cy="77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19000" y="3354480"/>
              <a:ext cx="792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826920" y="3224160"/>
              <a:ext cx="17640" cy="130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844560" y="3154320"/>
              <a:ext cx="9360" cy="69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3920" y="3154320"/>
              <a:ext cx="3492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888840" y="2936880"/>
              <a:ext cx="16200" cy="217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05040" y="2936880"/>
              <a:ext cx="9360" cy="244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14400" y="3181320"/>
              <a:ext cx="7920" cy="138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22320" y="3319560"/>
              <a:ext cx="17640" cy="34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939960" y="3233520"/>
              <a:ext cx="34920" cy="120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74880" y="3233880"/>
              <a:ext cx="9360" cy="95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84240" y="3328920"/>
              <a:ext cx="17640" cy="243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001880" y="3301920"/>
              <a:ext cx="7920" cy="270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09800" y="3301920"/>
              <a:ext cx="17280" cy="52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027080" y="3354480"/>
              <a:ext cx="34920" cy="112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62000" y="3467160"/>
              <a:ext cx="9720" cy="13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071720" y="3598920"/>
              <a:ext cx="1584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087560" y="3598920"/>
              <a:ext cx="9360" cy="60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96920" y="3659040"/>
              <a:ext cx="7920" cy="200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04840" y="3859200"/>
              <a:ext cx="4464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1149480" y="3814560"/>
              <a:ext cx="7920" cy="44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1157400" y="3789000"/>
              <a:ext cx="9360" cy="25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1166760" y="3719520"/>
              <a:ext cx="17640" cy="69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184400" y="3719520"/>
              <a:ext cx="792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1192320" y="3684240"/>
              <a:ext cx="44280" cy="34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36600" y="3684600"/>
              <a:ext cx="7920" cy="112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44520" y="3797280"/>
              <a:ext cx="9720" cy="52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1254240" y="3763440"/>
              <a:ext cx="15840" cy="86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70080" y="3763800"/>
              <a:ext cx="9360" cy="130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279440" y="3884760"/>
              <a:ext cx="3492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1314360" y="3824280"/>
              <a:ext cx="17640" cy="60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32000" y="3824280"/>
              <a:ext cx="7920" cy="77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39920" y="3902040"/>
              <a:ext cx="17280" cy="112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1357200" y="3962160"/>
              <a:ext cx="9720" cy="52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1366920" y="3894120"/>
              <a:ext cx="34920" cy="6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01840" y="3894120"/>
              <a:ext cx="1728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19120" y="3894120"/>
              <a:ext cx="7920" cy="112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27040" y="4006800"/>
              <a:ext cx="9720" cy="95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1436760" y="4059000"/>
              <a:ext cx="15840" cy="42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52600" y="4059360"/>
              <a:ext cx="34920" cy="60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487520" y="4119480"/>
              <a:ext cx="9360" cy="69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1496880" y="4102200"/>
              <a:ext cx="17640" cy="87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514520" y="4041720"/>
              <a:ext cx="7920" cy="60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1522440" y="4032360"/>
              <a:ext cx="1728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39720" y="4032360"/>
              <a:ext cx="34920" cy="96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574640" y="4129200"/>
              <a:ext cx="972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84360" y="4129200"/>
              <a:ext cx="17280" cy="25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1601640" y="4111200"/>
              <a:ext cx="7920" cy="42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609560" y="4111560"/>
              <a:ext cx="17640" cy="50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27200" y="4162320"/>
              <a:ext cx="34920" cy="139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1662120" y="4284720"/>
              <a:ext cx="7920" cy="1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0040" y="4284720"/>
              <a:ext cx="1764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1687680" y="4006800"/>
              <a:ext cx="9360" cy="28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1697040" y="3901680"/>
              <a:ext cx="7920" cy="104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1704960" y="3894120"/>
              <a:ext cx="4464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1749600" y="3598920"/>
              <a:ext cx="7920" cy="295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1757520" y="3441240"/>
              <a:ext cx="9360" cy="157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66880" y="3441600"/>
              <a:ext cx="17640" cy="69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1784520" y="3398400"/>
              <a:ext cx="7920" cy="112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440" y="3398760"/>
              <a:ext cx="34920" cy="60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27360" y="3459240"/>
              <a:ext cx="17280" cy="104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1844640" y="3458880"/>
              <a:ext cx="7920" cy="104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52560" y="3459240"/>
              <a:ext cx="17640" cy="147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70200" y="3606840"/>
              <a:ext cx="9360" cy="69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79560" y="3676680"/>
              <a:ext cx="34920" cy="103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1914480" y="3763440"/>
              <a:ext cx="17640" cy="16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932120" y="3588840"/>
              <a:ext cx="7920" cy="174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1940040" y="3511440"/>
              <a:ext cx="9360" cy="77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49400" y="3511440"/>
              <a:ext cx="17640" cy="17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1967040" y="3416040"/>
              <a:ext cx="33120" cy="112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2000160" y="3354480"/>
              <a:ext cx="17640" cy="61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17800" y="3354480"/>
              <a:ext cx="9360" cy="77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27160" y="3432240"/>
              <a:ext cx="7920" cy="304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2035080" y="3719520"/>
              <a:ext cx="17640" cy="1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52720" y="3719520"/>
              <a:ext cx="3492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2087640" y="3553920"/>
              <a:ext cx="9360" cy="165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2097000" y="3171960"/>
              <a:ext cx="17640" cy="382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14640" y="3171960"/>
              <a:ext cx="7920" cy="409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22560" y="3581280"/>
              <a:ext cx="1728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39840" y="3581280"/>
              <a:ext cx="3492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74760" y="3581280"/>
              <a:ext cx="7920" cy="165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2182680" y="3711240"/>
              <a:ext cx="17640" cy="34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200320" y="3711600"/>
              <a:ext cx="9360" cy="1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209680" y="3641760"/>
              <a:ext cx="7920" cy="87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217600" y="3641760"/>
              <a:ext cx="44640" cy="95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2262240" y="3511440"/>
              <a:ext cx="7920" cy="225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70160" y="3511440"/>
              <a:ext cx="9360" cy="34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279520" y="3546360"/>
              <a:ext cx="1764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97160" y="3546360"/>
              <a:ext cx="7920" cy="200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2305080" y="3588840"/>
              <a:ext cx="44280" cy="157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49360" y="3589200"/>
              <a:ext cx="7920" cy="95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57280" y="3684600"/>
              <a:ext cx="7920" cy="95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65200" y="3780000"/>
              <a:ext cx="17640" cy="174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82840" y="3954600"/>
              <a:ext cx="9360" cy="77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392200" y="4032360"/>
              <a:ext cx="34920" cy="69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2427120" y="3936600"/>
              <a:ext cx="17640" cy="165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444760" y="3936960"/>
              <a:ext cx="7920" cy="165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452680" y="4102200"/>
              <a:ext cx="17640" cy="52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70320" y="4154400"/>
              <a:ext cx="9360" cy="34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79680" y="4189320"/>
              <a:ext cx="34920" cy="155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514600" y="4284360"/>
              <a:ext cx="17640" cy="60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32240" y="4284720"/>
              <a:ext cx="7920" cy="112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40160" y="4397400"/>
              <a:ext cx="7920" cy="96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48080" y="4494240"/>
              <a:ext cx="17280" cy="250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65360" y="4745160"/>
              <a:ext cx="3492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600280" y="4701960"/>
              <a:ext cx="9720" cy="42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610000" y="4510080"/>
              <a:ext cx="17280" cy="192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2627280" y="4389120"/>
              <a:ext cx="7920" cy="120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35200" y="4389480"/>
              <a:ext cx="17640" cy="173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652840" y="4414320"/>
              <a:ext cx="34920" cy="147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687760" y="4414680"/>
              <a:ext cx="9360" cy="147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97120" y="4562640"/>
              <a:ext cx="1764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714760" y="4572000"/>
              <a:ext cx="7920" cy="120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2722680" y="4545000"/>
              <a:ext cx="17280" cy="147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739960" y="4545000"/>
              <a:ext cx="34920" cy="227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74880" y="4772160"/>
              <a:ext cx="792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82800" y="4772160"/>
              <a:ext cx="17640" cy="137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800440" y="4910040"/>
              <a:ext cx="936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09800" y="4919760"/>
              <a:ext cx="7920" cy="104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17720" y="5024520"/>
              <a:ext cx="44640" cy="50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862360" y="4859280"/>
              <a:ext cx="7920" cy="216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870280" y="4562640"/>
              <a:ext cx="9360" cy="29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2879640" y="4458960"/>
              <a:ext cx="17640" cy="103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97280" y="4459320"/>
              <a:ext cx="7920" cy="112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905200" y="4562640"/>
              <a:ext cx="3492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2940120" y="4536720"/>
              <a:ext cx="17280" cy="25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57400" y="4537080"/>
              <a:ext cx="7920" cy="182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965320" y="4319280"/>
              <a:ext cx="17640" cy="399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2982960" y="4223880"/>
              <a:ext cx="9360" cy="95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2992320" y="3997440"/>
              <a:ext cx="34920" cy="226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027240" y="2963520"/>
            <a:ext cx="3424320" cy="1398960"/>
            <a:chOff x="3027240" y="2963520"/>
            <a:chExt cx="3424320" cy="1398960"/>
          </a:xfrm>
        </p:grpSpPr>
        <p:sp>
          <p:nvSpPr>
            <p:cNvPr id="670" name=""/>
            <p:cNvSpPr/>
            <p:nvPr/>
          </p:nvSpPr>
          <p:spPr>
            <a:xfrm>
              <a:off x="3027240" y="3997440"/>
              <a:ext cx="17640" cy="365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3044880" y="4137120"/>
              <a:ext cx="7920" cy="225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52800" y="4137120"/>
              <a:ext cx="936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3062160" y="4119120"/>
              <a:ext cx="17640" cy="17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3079800" y="4059000"/>
              <a:ext cx="33120" cy="60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12920" y="4059360"/>
              <a:ext cx="17640" cy="1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30560" y="4076640"/>
              <a:ext cx="9360" cy="6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139920" y="4145040"/>
              <a:ext cx="792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147840" y="4145040"/>
              <a:ext cx="1764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65480" y="4145040"/>
              <a:ext cx="34920" cy="122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3200400" y="4172040"/>
              <a:ext cx="9360" cy="95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209760" y="3832200"/>
              <a:ext cx="17640" cy="339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27400" y="3832200"/>
              <a:ext cx="7920" cy="79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235320" y="3693600"/>
              <a:ext cx="17640" cy="217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3252960" y="3684600"/>
              <a:ext cx="3492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87880" y="3684600"/>
              <a:ext cx="7920" cy="79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295800" y="3763800"/>
              <a:ext cx="1728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313080" y="3763800"/>
              <a:ext cx="9720" cy="216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3322800" y="3884760"/>
              <a:ext cx="7920" cy="95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330720" y="3858840"/>
              <a:ext cx="44280" cy="25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375000" y="3736800"/>
              <a:ext cx="7920" cy="122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382920" y="3736800"/>
              <a:ext cx="972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3736800"/>
              <a:ext cx="1728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409920" y="3519360"/>
              <a:ext cx="7920" cy="217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417840" y="3519360"/>
              <a:ext cx="3492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452760" y="3519360"/>
              <a:ext cx="1764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70400" y="3519360"/>
              <a:ext cx="7920" cy="27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78320" y="3546360"/>
              <a:ext cx="17280" cy="190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495600" y="3736800"/>
              <a:ext cx="9720" cy="140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05320" y="3876840"/>
              <a:ext cx="3492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3540240" y="3598920"/>
              <a:ext cx="17280" cy="27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57520" y="3598920"/>
              <a:ext cx="7920" cy="164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3565440" y="3519000"/>
              <a:ext cx="17640" cy="244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83080" y="3519360"/>
              <a:ext cx="936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92440" y="3519360"/>
              <a:ext cx="3492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27360" y="3519360"/>
              <a:ext cx="15840" cy="79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43200" y="3598920"/>
              <a:ext cx="9720" cy="95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3652920" y="3598920"/>
              <a:ext cx="7920" cy="95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3660840" y="3546360"/>
              <a:ext cx="17280" cy="52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678120" y="3546360"/>
              <a:ext cx="3492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13040" y="3546360"/>
              <a:ext cx="972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22760" y="3546360"/>
              <a:ext cx="17280" cy="60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3740040" y="3501720"/>
              <a:ext cx="7920" cy="104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47960" y="3502080"/>
              <a:ext cx="17640" cy="69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3765600" y="3511440"/>
              <a:ext cx="34920" cy="60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800520" y="3258720"/>
              <a:ext cx="9360" cy="252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3809880" y="3181320"/>
              <a:ext cx="15840" cy="77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25720" y="3181320"/>
              <a:ext cx="9720" cy="25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35440" y="3206880"/>
              <a:ext cx="7920" cy="52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43360" y="3259080"/>
              <a:ext cx="44280" cy="87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87640" y="3346560"/>
              <a:ext cx="7920" cy="52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95560" y="3398760"/>
              <a:ext cx="17640" cy="25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913200" y="3424320"/>
              <a:ext cx="9360" cy="77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922560" y="3502080"/>
              <a:ext cx="7920" cy="129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930480" y="3632040"/>
              <a:ext cx="4464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3975120" y="3623760"/>
              <a:ext cx="7920" cy="17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83040" y="3624120"/>
              <a:ext cx="936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992400" y="3624120"/>
              <a:ext cx="16200" cy="25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4008600" y="3641760"/>
              <a:ext cx="936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017960" y="3641760"/>
              <a:ext cx="34920" cy="104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4052880" y="3736440"/>
              <a:ext cx="1764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070520" y="3736800"/>
              <a:ext cx="7920" cy="17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078440" y="3754440"/>
              <a:ext cx="1728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95720" y="3763800"/>
              <a:ext cx="9720" cy="95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4105440" y="3823920"/>
              <a:ext cx="34920" cy="34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140360" y="3824280"/>
              <a:ext cx="17280" cy="130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157640" y="3954600"/>
              <a:ext cx="792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4165560" y="3754440"/>
              <a:ext cx="9720" cy="20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4175280" y="3746520"/>
              <a:ext cx="1584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4191120" y="3666600"/>
              <a:ext cx="34920" cy="79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4226040" y="3589200"/>
              <a:ext cx="9360" cy="77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4235400" y="3476160"/>
              <a:ext cx="17640" cy="112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53040" y="3476520"/>
              <a:ext cx="7920" cy="25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260960" y="3502080"/>
              <a:ext cx="17280" cy="79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278240" y="3484080"/>
              <a:ext cx="34920" cy="96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4313160" y="3381480"/>
              <a:ext cx="9720" cy="102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322880" y="3276360"/>
              <a:ext cx="17280" cy="104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340160" y="3276720"/>
              <a:ext cx="7920" cy="104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4348080" y="3293640"/>
              <a:ext cx="17640" cy="87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365720" y="3294000"/>
              <a:ext cx="34920" cy="34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00640" y="3328920"/>
              <a:ext cx="7920" cy="52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08560" y="3381480"/>
              <a:ext cx="17280" cy="112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425840" y="3441600"/>
              <a:ext cx="9720" cy="52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435560" y="3406320"/>
              <a:ext cx="7920" cy="34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4443480" y="3389400"/>
              <a:ext cx="44280" cy="1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4487760" y="3328920"/>
              <a:ext cx="7920" cy="60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95680" y="3328920"/>
              <a:ext cx="9720" cy="60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4505400" y="3241800"/>
              <a:ext cx="17280" cy="147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22680" y="3241800"/>
              <a:ext cx="7920" cy="87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4530600" y="3249720"/>
              <a:ext cx="34920" cy="79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65520" y="3249720"/>
              <a:ext cx="17640" cy="52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4583160" y="3224160"/>
              <a:ext cx="7920" cy="77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4591080" y="3076560"/>
              <a:ext cx="17280" cy="147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4608360" y="2963520"/>
              <a:ext cx="9720" cy="112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618080" y="2963880"/>
              <a:ext cx="34920" cy="69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4653000" y="3024360"/>
              <a:ext cx="1728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70280" y="3024360"/>
              <a:ext cx="792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678200" y="3033720"/>
              <a:ext cx="17640" cy="85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95840" y="3119400"/>
              <a:ext cx="9360" cy="96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05200" y="3216240"/>
              <a:ext cx="33480" cy="130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4738680" y="3328560"/>
              <a:ext cx="17640" cy="17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56320" y="3328920"/>
              <a:ext cx="9360" cy="60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765680" y="3301560"/>
              <a:ext cx="7920" cy="87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773600" y="3301920"/>
              <a:ext cx="1764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4791240" y="3258720"/>
              <a:ext cx="34920" cy="42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4826160" y="3171960"/>
              <a:ext cx="9360" cy="87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35520" y="3171960"/>
              <a:ext cx="17640" cy="34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4853160" y="3129120"/>
              <a:ext cx="7920" cy="77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61080" y="3129120"/>
              <a:ext cx="1728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878360" y="3041280"/>
              <a:ext cx="34920" cy="87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4913280" y="2989080"/>
              <a:ext cx="7920" cy="52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921200" y="2989440"/>
              <a:ext cx="17640" cy="156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4938840" y="3101760"/>
              <a:ext cx="9360" cy="44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948200" y="3102120"/>
              <a:ext cx="7920" cy="79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56120" y="3181320"/>
              <a:ext cx="44640" cy="182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5000760" y="3258720"/>
              <a:ext cx="7920" cy="104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08680" y="3259080"/>
              <a:ext cx="17280" cy="25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5025960" y="3233520"/>
              <a:ext cx="9720" cy="50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35680" y="3233880"/>
              <a:ext cx="7920" cy="225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5043600" y="3336840"/>
              <a:ext cx="44280" cy="122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87880" y="3336840"/>
              <a:ext cx="7920" cy="104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95800" y="3441600"/>
              <a:ext cx="7920" cy="104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5103720" y="3501720"/>
              <a:ext cx="17640" cy="44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21360" y="3502080"/>
              <a:ext cx="9360" cy="27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30720" y="3529080"/>
              <a:ext cx="34920" cy="1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165640" y="3529080"/>
              <a:ext cx="17640" cy="1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5183280" y="3423960"/>
              <a:ext cx="7920" cy="104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191200" y="3424320"/>
              <a:ext cx="1728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208480" y="3424320"/>
              <a:ext cx="972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218200" y="3424320"/>
              <a:ext cx="34920" cy="156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5253120" y="3398400"/>
              <a:ext cx="17280" cy="182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270400" y="3398760"/>
              <a:ext cx="7920" cy="42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278320" y="3294000"/>
              <a:ext cx="7920" cy="147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86240" y="3294000"/>
              <a:ext cx="17640" cy="95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5303880" y="3284280"/>
              <a:ext cx="34920" cy="104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338800" y="3284640"/>
              <a:ext cx="936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8160" y="3284640"/>
              <a:ext cx="17640" cy="104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365800" y="3389400"/>
              <a:ext cx="7920" cy="112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73720" y="3502080"/>
              <a:ext cx="17280" cy="199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5391000" y="3693960"/>
              <a:ext cx="3492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5425920" y="3666600"/>
              <a:ext cx="9720" cy="27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5435640" y="3598560"/>
              <a:ext cx="17280" cy="68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52920" y="3598920"/>
              <a:ext cx="7920" cy="33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460840" y="3632040"/>
              <a:ext cx="17640" cy="104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5478480" y="3623760"/>
              <a:ext cx="34920" cy="112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5513400" y="3606840"/>
              <a:ext cx="7920" cy="1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521320" y="3606840"/>
              <a:ext cx="17640" cy="60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5538960" y="3649680"/>
              <a:ext cx="9360" cy="1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548320" y="3649680"/>
              <a:ext cx="7920" cy="96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5556240" y="3649320"/>
              <a:ext cx="44640" cy="96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5600880" y="3571920"/>
              <a:ext cx="7920" cy="77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608800" y="3571920"/>
              <a:ext cx="9360" cy="34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5618160" y="3459240"/>
              <a:ext cx="17640" cy="147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5635800" y="3441240"/>
              <a:ext cx="7920" cy="17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643720" y="3441600"/>
              <a:ext cx="3492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78640" y="3441600"/>
              <a:ext cx="17280" cy="87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695920" y="3529080"/>
              <a:ext cx="7920" cy="34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703840" y="3564000"/>
              <a:ext cx="17640" cy="1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21480" y="3581280"/>
              <a:ext cx="9360" cy="6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730840" y="3649680"/>
              <a:ext cx="34920" cy="1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65760" y="3666960"/>
              <a:ext cx="17640" cy="17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783400" y="3614760"/>
              <a:ext cx="7920" cy="69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91320" y="3614760"/>
              <a:ext cx="17280" cy="114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808600" y="3728880"/>
              <a:ext cx="9720" cy="78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5818320" y="3736440"/>
              <a:ext cx="33120" cy="70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51440" y="3736800"/>
              <a:ext cx="17640" cy="60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69080" y="3797280"/>
              <a:ext cx="9360" cy="44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5878440" y="3666960"/>
              <a:ext cx="7920" cy="174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86360" y="3666960"/>
              <a:ext cx="17640" cy="17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904000" y="3684600"/>
              <a:ext cx="3492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938920" y="3693960"/>
              <a:ext cx="9360" cy="95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48280" y="3789360"/>
              <a:ext cx="1764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5965920" y="3789360"/>
              <a:ext cx="792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973840" y="3789360"/>
              <a:ext cx="17280" cy="42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991120" y="3832200"/>
              <a:ext cx="34920" cy="34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6026040" y="3831840"/>
              <a:ext cx="7920" cy="34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033960" y="3719160"/>
              <a:ext cx="17640" cy="112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051600" y="3719520"/>
              <a:ext cx="936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60960" y="3719520"/>
              <a:ext cx="7920" cy="260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068880" y="3979800"/>
              <a:ext cx="44640" cy="69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113520" y="4049640"/>
              <a:ext cx="7920" cy="61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121440" y="4094280"/>
              <a:ext cx="9360" cy="1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30800" y="4094280"/>
              <a:ext cx="17640" cy="85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6148440" y="4161960"/>
              <a:ext cx="7920" cy="17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56360" y="4162320"/>
              <a:ext cx="42840" cy="52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6199200" y="4137120"/>
              <a:ext cx="9360" cy="77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208560" y="4137120"/>
              <a:ext cx="7920" cy="69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6216480" y="4196880"/>
              <a:ext cx="1764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6234120" y="4179960"/>
              <a:ext cx="9360" cy="17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243480" y="4179960"/>
              <a:ext cx="34920" cy="87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278400" y="4179960"/>
              <a:ext cx="17640" cy="87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96040" y="4179960"/>
              <a:ext cx="7920" cy="104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303960" y="4284720"/>
              <a:ext cx="1764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321600" y="4266720"/>
              <a:ext cx="9360" cy="17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6330960" y="4049640"/>
              <a:ext cx="34920" cy="217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365880" y="4049640"/>
              <a:ext cx="15840" cy="27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6381720" y="4041360"/>
              <a:ext cx="9720" cy="34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6391440" y="4032360"/>
              <a:ext cx="792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6399360" y="4014360"/>
              <a:ext cx="17280" cy="17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6416640" y="3711600"/>
              <a:ext cx="34920" cy="303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6451560" y="3711600"/>
            <a:ext cx="9720" cy="34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461280" y="3746520"/>
            <a:ext cx="17280" cy="604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6478560" y="3789000"/>
            <a:ext cx="7920" cy="17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486480" y="3789360"/>
            <a:ext cx="176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504120" y="3789360"/>
            <a:ext cx="349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539040" y="3641760"/>
            <a:ext cx="9360" cy="147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548400" y="3631680"/>
            <a:ext cx="15840" cy="9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564240" y="3632040"/>
            <a:ext cx="9720" cy="9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573960" y="3641760"/>
            <a:ext cx="17280" cy="52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91240" y="3693960"/>
            <a:ext cx="34920" cy="34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6626160" y="3623760"/>
            <a:ext cx="7920" cy="104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6634080" y="3588840"/>
            <a:ext cx="17640" cy="34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651720" y="3589200"/>
            <a:ext cx="9360" cy="17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6661080" y="3598920"/>
            <a:ext cx="792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6669000" y="3511080"/>
            <a:ext cx="44640" cy="874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13640" y="3511440"/>
            <a:ext cx="792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21560" y="3537000"/>
            <a:ext cx="9360" cy="9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30920" y="3546360"/>
            <a:ext cx="15840" cy="17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6746760" y="3502080"/>
            <a:ext cx="9720" cy="61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56480" y="3502080"/>
            <a:ext cx="34920" cy="9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91400" y="3511440"/>
            <a:ext cx="1728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8680" y="3537000"/>
            <a:ext cx="7920" cy="9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6816600" y="3476520"/>
            <a:ext cx="17640" cy="69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6834240" y="3084120"/>
            <a:ext cx="9360" cy="392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43600" y="3084480"/>
            <a:ext cx="34920" cy="1144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6878520" y="3163680"/>
            <a:ext cx="17640" cy="34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96160" y="3164040"/>
            <a:ext cx="7920" cy="242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6904080" y="3189240"/>
            <a:ext cx="9360" cy="217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913440" y="3189240"/>
            <a:ext cx="15840" cy="604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929280" y="3249720"/>
            <a:ext cx="349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964200" y="3249720"/>
            <a:ext cx="17640" cy="79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6981840" y="3164040"/>
            <a:ext cx="9360" cy="164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991200" y="3164040"/>
            <a:ext cx="79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6999120" y="3006360"/>
            <a:ext cx="17640" cy="157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016760" y="3006720"/>
            <a:ext cx="34920" cy="17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051680" y="3024360"/>
            <a:ext cx="9360" cy="191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7061040" y="3041280"/>
            <a:ext cx="17640" cy="174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078680" y="3041640"/>
            <a:ext cx="7920" cy="165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7086600" y="3076560"/>
            <a:ext cx="17640" cy="130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04240" y="3076560"/>
            <a:ext cx="349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139160" y="3076560"/>
            <a:ext cx="7920" cy="95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7147080" y="3033720"/>
            <a:ext cx="17280" cy="138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164360" y="3033720"/>
            <a:ext cx="97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174080" y="3033720"/>
            <a:ext cx="79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182000" y="3033720"/>
            <a:ext cx="44280" cy="334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26280" y="3067200"/>
            <a:ext cx="7920" cy="9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234200" y="3076560"/>
            <a:ext cx="97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7243920" y="3033360"/>
            <a:ext cx="17280" cy="42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7261200" y="2998440"/>
            <a:ext cx="7920" cy="34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269120" y="2736720"/>
            <a:ext cx="42840" cy="262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311960" y="2736720"/>
            <a:ext cx="9720" cy="3304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321680" y="3067200"/>
            <a:ext cx="7920" cy="17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329600" y="3084480"/>
            <a:ext cx="17280" cy="17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346880" y="3102120"/>
            <a:ext cx="97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356600" y="3102120"/>
            <a:ext cx="34920" cy="871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391520" y="3189240"/>
            <a:ext cx="1728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7408800" y="3128760"/>
            <a:ext cx="7920" cy="601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416720" y="3129120"/>
            <a:ext cx="17640" cy="182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7434360" y="3267000"/>
            <a:ext cx="9360" cy="44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443720" y="3206520"/>
            <a:ext cx="33480" cy="601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7477200" y="3129120"/>
            <a:ext cx="17280" cy="77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494480" y="3129120"/>
            <a:ext cx="9720" cy="112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7504200" y="3215880"/>
            <a:ext cx="792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512120" y="3216240"/>
            <a:ext cx="17280" cy="50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529400" y="3267000"/>
            <a:ext cx="34920" cy="1144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564320" y="3381480"/>
            <a:ext cx="9720" cy="25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7574040" y="3389400"/>
            <a:ext cx="17280" cy="17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91320" y="3389400"/>
            <a:ext cx="7920" cy="69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7599240" y="3431880"/>
            <a:ext cx="176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616880" y="3432240"/>
            <a:ext cx="34920" cy="17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7651800" y="3406320"/>
            <a:ext cx="7920" cy="42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659720" y="3406680"/>
            <a:ext cx="1728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77000" y="3406680"/>
            <a:ext cx="9720" cy="252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7686720" y="3416400"/>
            <a:ext cx="17280" cy="242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704000" y="3416400"/>
            <a:ext cx="349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738920" y="3416400"/>
            <a:ext cx="79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7746840" y="3389040"/>
            <a:ext cx="176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7764480" y="3381480"/>
            <a:ext cx="936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773840" y="3381480"/>
            <a:ext cx="7920" cy="25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7781760" y="3389400"/>
            <a:ext cx="44640" cy="17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7826400" y="3346200"/>
            <a:ext cx="7920" cy="42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7834320" y="3241440"/>
            <a:ext cx="7920" cy="104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842240" y="3241800"/>
            <a:ext cx="176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859880" y="3241800"/>
            <a:ext cx="9360" cy="139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869240" y="3381480"/>
            <a:ext cx="34920" cy="164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7904160" y="3511080"/>
            <a:ext cx="17640" cy="34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921800" y="3511440"/>
            <a:ext cx="7920" cy="34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929720" y="3546360"/>
            <a:ext cx="17280" cy="34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947000" y="3581280"/>
            <a:ext cx="9720" cy="68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956720" y="3649680"/>
            <a:ext cx="34920" cy="871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991640" y="3736800"/>
            <a:ext cx="17280" cy="52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8008920" y="3571920"/>
            <a:ext cx="7920" cy="217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016840" y="3571920"/>
            <a:ext cx="7920" cy="217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024760" y="3789360"/>
            <a:ext cx="17640" cy="604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8042400" y="3623760"/>
            <a:ext cx="34920" cy="225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077320" y="3624120"/>
            <a:ext cx="17280" cy="382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8094600" y="3641760"/>
            <a:ext cx="9720" cy="365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104320" y="3641760"/>
            <a:ext cx="7920" cy="173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8112240" y="3666600"/>
            <a:ext cx="17280" cy="147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129520" y="3666960"/>
            <a:ext cx="34920" cy="140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164440" y="3807000"/>
            <a:ext cx="97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8174160" y="3649320"/>
            <a:ext cx="17280" cy="157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191440" y="3649680"/>
            <a:ext cx="79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199360" y="3649680"/>
            <a:ext cx="17640" cy="1141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217000" y="3763800"/>
            <a:ext cx="34920" cy="511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8251920" y="3807000"/>
            <a:ext cx="792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259840" y="3807000"/>
            <a:ext cx="17280" cy="601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8277120" y="3849840"/>
            <a:ext cx="9720" cy="17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8286840" y="3676320"/>
            <a:ext cx="7920" cy="173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294760" y="3676680"/>
            <a:ext cx="4428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8339040" y="3632040"/>
            <a:ext cx="7920" cy="44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346960" y="3632040"/>
            <a:ext cx="9720" cy="17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356680" y="3649680"/>
            <a:ext cx="17280" cy="44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373960" y="3693960"/>
            <a:ext cx="7920" cy="103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381880" y="3797280"/>
            <a:ext cx="349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416800" y="3797280"/>
            <a:ext cx="17640" cy="182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8434440" y="3763800"/>
            <a:ext cx="7920" cy="216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49800" y="6067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34600" y="564048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,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34600" y="52070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34600" y="478008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,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34600" y="43545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,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49800" y="3919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34600" y="34941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,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34600" y="30672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,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34600" y="264168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,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34600" y="22068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,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49800" y="17812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2840" y="62676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.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412640" y="62676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3.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160360" y="62676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5.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08080" y="62676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7.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655800" y="62676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9.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401720" y="62676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.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141520" y="62676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889240" y="62676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3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636960" y="62676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5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384680" y="62676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7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132400" y="62676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9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96800" y="6580080"/>
            <a:ext cx="2095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912600" y="6483240"/>
            <a:ext cx="374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 BENCHMARK 10 YEAR DS GOVT.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653000" y="6580080"/>
            <a:ext cx="20808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070240" y="6483240"/>
            <a:ext cx="373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 BENCHMARK 10 YEAR DS GOVT.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92040" y="1658880"/>
            <a:ext cx="8337600" cy="5156280"/>
          </a:xfrm>
          <a:prstGeom prst="rect">
            <a:avLst/>
          </a:prstGeom>
          <a:noFill/>
          <a:ln w="7920">
            <a:solidFill>
              <a:srgbClr val="6f57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278320" y="2041200"/>
            <a:ext cx="7920" cy="4156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540320" y="1824120"/>
            <a:ext cx="15555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1720" y="1851120"/>
            <a:ext cx="82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1/12/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985760" y="1620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610320" y="1619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619520" y="6550200"/>
            <a:ext cx="257400" cy="85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92120" y="6550200"/>
            <a:ext cx="257040" cy="85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annuelle des obligations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s trésorerie dynamique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9,3 % du portefeuille total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54120" y="4478400"/>
            <a:ext cx="204840" cy="798480"/>
          </a:xfrm>
          <a:prstGeom prst="rect">
            <a:avLst/>
          </a:prstGeom>
          <a:solidFill>
            <a:srgbClr val="ff0000"/>
          </a:solidFill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84560" y="3506760"/>
            <a:ext cx="206280" cy="1770120"/>
          </a:xfrm>
          <a:prstGeom prst="rect">
            <a:avLst/>
          </a:prstGeom>
          <a:solidFill>
            <a:srgbClr val="ff0000"/>
          </a:solidFill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925800" y="3765600"/>
            <a:ext cx="206640" cy="1511280"/>
          </a:xfrm>
          <a:prstGeom prst="rect">
            <a:avLst/>
          </a:prstGeom>
          <a:solidFill>
            <a:srgbClr val="ff0000"/>
          </a:solidFill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946080" y="4554360"/>
            <a:ext cx="216000" cy="722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576520" y="2903400"/>
            <a:ext cx="216000" cy="237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218120" y="2784600"/>
            <a:ext cx="215640" cy="249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848200" y="2287440"/>
            <a:ext cx="216000" cy="298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489800" y="3086280"/>
            <a:ext cx="216000" cy="219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36600" y="4672080"/>
            <a:ext cx="217440" cy="604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878200" y="3637080"/>
            <a:ext cx="206280" cy="1639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510080" y="3463920"/>
            <a:ext cx="216000" cy="1812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151680" y="3917880"/>
            <a:ext cx="204840" cy="1359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781760" y="3917880"/>
            <a:ext cx="216000" cy="1359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539720" y="4694400"/>
            <a:ext cx="204840" cy="582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170160" y="3065400"/>
            <a:ext cx="216000" cy="2211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811760" y="2752560"/>
            <a:ext cx="204840" cy="2524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442200" y="2158920"/>
            <a:ext cx="217440" cy="3117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8085240" y="2008080"/>
            <a:ext cx="204840" cy="3268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671640" y="346392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,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008080" y="32050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,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50800" y="401472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408800" y="28162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,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744880" y="20178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,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125960" y="255744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,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430360" y="26002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,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993600" y="42084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,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557600" y="319392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,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807320" y="360504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,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210360" y="364824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,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925720" y="335592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,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284120" y="44020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,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959600" y="16732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,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522840" y="192096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,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751280" y="248292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,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152520" y="282744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,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825560" y="46180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169920" y="1523880"/>
            <a:ext cx="8526240" cy="5110560"/>
            <a:chOff x="169920" y="1523880"/>
            <a:chExt cx="8526240" cy="5110560"/>
          </a:xfrm>
        </p:grpSpPr>
        <p:grpSp>
          <p:nvGrpSpPr>
            <p:cNvPr id="1059" name=""/>
            <p:cNvGrpSpPr/>
            <p:nvPr/>
          </p:nvGrpSpPr>
          <p:grpSpPr>
            <a:xfrm>
              <a:off x="380880" y="1523880"/>
              <a:ext cx="1100880" cy="1449000"/>
              <a:chOff x="380880" y="1523880"/>
              <a:chExt cx="1100880" cy="144900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380880" y="1523880"/>
                <a:ext cx="817200" cy="305280"/>
                <a:chOff x="380880" y="1523880"/>
                <a:chExt cx="817200" cy="30528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380880" y="1605960"/>
                  <a:ext cx="200880" cy="1893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88320" y="1523880"/>
                  <a:ext cx="509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1 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>
                <a:off x="380880" y="1983240"/>
                <a:ext cx="200880" cy="18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89040" y="1898280"/>
                <a:ext cx="721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3 an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80880" y="2375280"/>
                <a:ext cx="218520" cy="2037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88680" y="2289600"/>
                <a:ext cx="65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5 a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80880" y="2752560"/>
                <a:ext cx="200880" cy="1872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88680" y="2667600"/>
                <a:ext cx="793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10 a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"/>
            <p:cNvSpPr/>
            <p:nvPr/>
          </p:nvSpPr>
          <p:spPr>
            <a:xfrm>
              <a:off x="415800" y="5270400"/>
              <a:ext cx="14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71920" y="5270400"/>
              <a:ext cx="176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JPM GLOB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068560" y="5270400"/>
              <a:ext cx="143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PCVM CARM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57800" y="5270400"/>
              <a:ext cx="17622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*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934320" y="5270400"/>
              <a:ext cx="176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JPM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7-10 ans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*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69920" y="6235560"/>
              <a:ext cx="30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*)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éthode des flu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0" y="19368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Évolution des principaux indices actions depuis le 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janvier 2003 en devises lo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20840" y="1092240"/>
            <a:ext cx="33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 15 septembre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344520" y="1398600"/>
            <a:ext cx="8315280" cy="5119560"/>
            <a:chOff x="344520" y="1398600"/>
            <a:chExt cx="8315280" cy="5119560"/>
          </a:xfrm>
        </p:grpSpPr>
        <p:sp>
          <p:nvSpPr>
            <p:cNvPr id="1078" name=""/>
            <p:cNvSpPr/>
            <p:nvPr/>
          </p:nvSpPr>
          <p:spPr>
            <a:xfrm>
              <a:off x="344520" y="1398600"/>
              <a:ext cx="8315280" cy="511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28720" y="1625760"/>
              <a:ext cx="1440" cy="41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28720" y="5808600"/>
              <a:ext cx="49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8720" y="5284800"/>
              <a:ext cx="4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28720" y="4762440"/>
              <a:ext cx="49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28720" y="4240080"/>
              <a:ext cx="49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28720" y="3716280"/>
              <a:ext cx="49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28720" y="3193920"/>
              <a:ext cx="49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28720" y="2671920"/>
              <a:ext cx="4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28720" y="2147760"/>
              <a:ext cx="49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28720" y="1625760"/>
              <a:ext cx="4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28720" y="5808600"/>
              <a:ext cx="7466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828720" y="5758920"/>
              <a:ext cx="14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1557360" y="5758920"/>
              <a:ext cx="14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87440" y="5758920"/>
              <a:ext cx="180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3017880" y="5758920"/>
              <a:ext cx="14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3747960" y="5758920"/>
              <a:ext cx="180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4467240" y="5758920"/>
              <a:ext cx="14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5197320" y="5758920"/>
              <a:ext cx="180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5927760" y="5758920"/>
              <a:ext cx="14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6656400" y="5758920"/>
              <a:ext cx="14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386480" y="5758920"/>
              <a:ext cx="180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8116920" y="5758920"/>
              <a:ext cx="14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38080" y="4240080"/>
              <a:ext cx="972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847800" y="4013280"/>
              <a:ext cx="9360" cy="226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7160" y="4013280"/>
              <a:ext cx="972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866880" y="3992040"/>
              <a:ext cx="39600" cy="39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06480" y="3992400"/>
              <a:ext cx="9360" cy="795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915840" y="4071960"/>
              <a:ext cx="11160" cy="1191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927000" y="4091040"/>
              <a:ext cx="19080" cy="100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946080" y="4071600"/>
              <a:ext cx="972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955800" y="4061880"/>
              <a:ext cx="2988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85680" y="4052880"/>
              <a:ext cx="1908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004760" y="4052880"/>
              <a:ext cx="11160" cy="68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1015920" y="4101840"/>
              <a:ext cx="972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025640" y="4102200"/>
              <a:ext cx="9360" cy="147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35000" y="4249800"/>
              <a:ext cx="39600" cy="680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074600" y="4317840"/>
              <a:ext cx="9720" cy="39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084320" y="4357800"/>
              <a:ext cx="9360" cy="109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93680" y="4467240"/>
              <a:ext cx="972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103400" y="4486320"/>
              <a:ext cx="2052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123920" y="4525920"/>
              <a:ext cx="30240" cy="166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154160" y="4692600"/>
              <a:ext cx="1908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1173240" y="4624200"/>
              <a:ext cx="9360" cy="680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1182600" y="4495680"/>
              <a:ext cx="9720" cy="1288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1192320" y="4456080"/>
              <a:ext cx="1116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1203480" y="4416480"/>
              <a:ext cx="3780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241280" y="4416480"/>
              <a:ext cx="11160" cy="1681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1252440" y="4545000"/>
              <a:ext cx="972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262160" y="4545000"/>
              <a:ext cx="9360" cy="795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271520" y="4624560"/>
              <a:ext cx="20880" cy="680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292400" y="4692600"/>
              <a:ext cx="2844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1320840" y="4614840"/>
              <a:ext cx="9360" cy="117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330200" y="4614840"/>
              <a:ext cx="20880" cy="1285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351080" y="4743360"/>
              <a:ext cx="93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1360440" y="4642920"/>
              <a:ext cx="9720" cy="1191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1370160" y="4544640"/>
              <a:ext cx="39600" cy="982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1409760" y="4455720"/>
              <a:ext cx="9360" cy="889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419120" y="4456080"/>
              <a:ext cx="11160" cy="1285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30280" y="4584600"/>
              <a:ext cx="9720" cy="986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1440000" y="4633560"/>
              <a:ext cx="1908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59080" y="4633920"/>
              <a:ext cx="2988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88960" y="4713120"/>
              <a:ext cx="9720" cy="1778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98680" y="4890960"/>
              <a:ext cx="19080" cy="39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1517760" y="4830840"/>
              <a:ext cx="11160" cy="100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1528920" y="4771800"/>
              <a:ext cx="9360" cy="58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1538280" y="4752720"/>
              <a:ext cx="3960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577880" y="4753080"/>
              <a:ext cx="9720" cy="147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587600" y="4900680"/>
              <a:ext cx="936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96960" y="4940280"/>
              <a:ext cx="9720" cy="28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4968720"/>
              <a:ext cx="20520" cy="109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27200" y="5078520"/>
              <a:ext cx="28440" cy="982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655640" y="5176800"/>
              <a:ext cx="1116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666800" y="5216400"/>
              <a:ext cx="19080" cy="147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1685880" y="5106960"/>
              <a:ext cx="9720" cy="2570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1695600" y="4792320"/>
              <a:ext cx="9360" cy="3142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1704960" y="4633560"/>
              <a:ext cx="39600" cy="1587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744560" y="4633920"/>
              <a:ext cx="11160" cy="698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1755720" y="4624560"/>
              <a:ext cx="972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765440" y="4624560"/>
              <a:ext cx="936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1774800" y="4535280"/>
              <a:ext cx="19080" cy="1681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793880" y="4535640"/>
              <a:ext cx="30240" cy="2761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1824120" y="4692240"/>
              <a:ext cx="9360" cy="1191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833480" y="4692600"/>
              <a:ext cx="20880" cy="205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854360" y="4713120"/>
              <a:ext cx="9360" cy="1080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1863720" y="4801680"/>
              <a:ext cx="93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873080" y="4802040"/>
              <a:ext cx="39960" cy="1969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1913040" y="4968720"/>
              <a:ext cx="93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1922400" y="4781520"/>
              <a:ext cx="9720" cy="187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1932120" y="4713120"/>
              <a:ext cx="11160" cy="68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1943280" y="4624560"/>
              <a:ext cx="9360" cy="885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1952640" y="4456080"/>
              <a:ext cx="39600" cy="1684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992240" y="4456080"/>
              <a:ext cx="9720" cy="698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001960" y="4525920"/>
              <a:ext cx="1908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021040" y="4535640"/>
              <a:ext cx="10800" cy="1378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2031840" y="4624560"/>
              <a:ext cx="9720" cy="48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2041560" y="4565520"/>
              <a:ext cx="39600" cy="590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2081160" y="4486320"/>
              <a:ext cx="972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090880" y="4486320"/>
              <a:ext cx="936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100240" y="4525920"/>
              <a:ext cx="972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109960" y="4525920"/>
              <a:ext cx="936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119320" y="4525920"/>
              <a:ext cx="3960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2158920" y="4495680"/>
              <a:ext cx="111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2170080" y="4416480"/>
              <a:ext cx="972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179800" y="4416480"/>
              <a:ext cx="18720" cy="100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98520" y="4516560"/>
              <a:ext cx="9720" cy="58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2208240" y="4437000"/>
              <a:ext cx="39600" cy="138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247840" y="4437000"/>
              <a:ext cx="972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2257560" y="4427280"/>
              <a:ext cx="1080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68360" y="4427640"/>
              <a:ext cx="972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2278080" y="4406760"/>
              <a:ext cx="9360" cy="208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2287440" y="4357800"/>
              <a:ext cx="39960" cy="48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2327400" y="4249800"/>
              <a:ext cx="9360" cy="1080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36760" y="4249800"/>
              <a:ext cx="9720" cy="58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346480" y="4308480"/>
              <a:ext cx="20520" cy="147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2367000" y="4406400"/>
              <a:ext cx="93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76360" y="4406760"/>
              <a:ext cx="3024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2406600" y="4406400"/>
              <a:ext cx="1908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425680" y="4406760"/>
              <a:ext cx="972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2435400" y="4357440"/>
              <a:ext cx="9360" cy="58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444760" y="4357800"/>
              <a:ext cx="1116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55920" y="4357800"/>
              <a:ext cx="39600" cy="217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2495520" y="4554360"/>
              <a:ext cx="9720" cy="208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05240" y="4554360"/>
              <a:ext cx="936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2514600" y="4516200"/>
              <a:ext cx="19080" cy="37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533680" y="4516560"/>
              <a:ext cx="1116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544840" y="4525920"/>
              <a:ext cx="2844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2573280" y="4535640"/>
              <a:ext cx="2052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2593800" y="4437000"/>
              <a:ext cx="9720" cy="986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2603520" y="4397400"/>
              <a:ext cx="936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2612880" y="4357800"/>
              <a:ext cx="972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622600" y="4268520"/>
              <a:ext cx="39600" cy="889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662200" y="4268880"/>
              <a:ext cx="972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2671920" y="4240080"/>
              <a:ext cx="10800" cy="381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82720" y="4240080"/>
              <a:ext cx="1908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2701800" y="4190760"/>
              <a:ext cx="9720" cy="982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711520" y="4191120"/>
              <a:ext cx="30240" cy="680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2741760" y="4210200"/>
              <a:ext cx="19080" cy="48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2760840" y="4141800"/>
              <a:ext cx="10800" cy="68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771640" y="4090680"/>
              <a:ext cx="9720" cy="507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781360" y="4091040"/>
              <a:ext cx="9360" cy="698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2790720" y="4052880"/>
              <a:ext cx="39960" cy="1080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2830680" y="4003200"/>
              <a:ext cx="93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2840040" y="3982680"/>
              <a:ext cx="9360" cy="205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849400" y="3983040"/>
              <a:ext cx="20880" cy="889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2870280" y="4022280"/>
              <a:ext cx="93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879640" y="4022640"/>
              <a:ext cx="28800" cy="1191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08440" y="4141800"/>
              <a:ext cx="20520" cy="28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2928960" y="4160880"/>
              <a:ext cx="936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938320" y="4160880"/>
              <a:ext cx="972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2948040" y="4160880"/>
              <a:ext cx="1116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959200" y="4160880"/>
              <a:ext cx="381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997360" y="4210200"/>
              <a:ext cx="10800" cy="118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3008160" y="4210200"/>
              <a:ext cx="9720" cy="118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3017880" y="4190760"/>
              <a:ext cx="93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027240" y="4191120"/>
              <a:ext cx="19080" cy="381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3046320" y="4041360"/>
              <a:ext cx="30240" cy="1875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076560" y="4041720"/>
              <a:ext cx="2052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097080" y="4041720"/>
              <a:ext cx="9720" cy="698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106800" y="4111560"/>
              <a:ext cx="9360" cy="68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3116160" y="4111560"/>
              <a:ext cx="9720" cy="68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3125880" y="4022280"/>
              <a:ext cx="39600" cy="889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165480" y="4022640"/>
              <a:ext cx="93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174840" y="4041720"/>
              <a:ext cx="972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184560" y="4091040"/>
              <a:ext cx="1116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195720" y="4130640"/>
              <a:ext cx="1908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214800" y="4130640"/>
              <a:ext cx="29880" cy="795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3244680" y="4190760"/>
              <a:ext cx="972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254400" y="4191120"/>
              <a:ext cx="1908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3273480" y="4080960"/>
              <a:ext cx="11160" cy="1191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284640" y="4081320"/>
              <a:ext cx="9360" cy="795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3294000" y="4071600"/>
              <a:ext cx="39600" cy="889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333600" y="4071960"/>
              <a:ext cx="972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343320" y="4052520"/>
              <a:ext cx="93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3352680" y="3992400"/>
              <a:ext cx="9720" cy="604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362400" y="3992400"/>
              <a:ext cx="20520" cy="698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382920" y="4062240"/>
              <a:ext cx="28440" cy="39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3411360" y="4032360"/>
              <a:ext cx="11160" cy="698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422520" y="4032360"/>
              <a:ext cx="19080" cy="982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3441600" y="4121280"/>
              <a:ext cx="972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3451320" y="4062240"/>
              <a:ext cx="9360" cy="590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3460680" y="4022640"/>
              <a:ext cx="3960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3500280" y="3992400"/>
              <a:ext cx="972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510000" y="3992400"/>
              <a:ext cx="1116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3521160" y="3903840"/>
              <a:ext cx="9360" cy="885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3530520" y="3875040"/>
              <a:ext cx="19080" cy="28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3549600" y="3835440"/>
              <a:ext cx="3024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3579840" y="3814560"/>
              <a:ext cx="9360" cy="205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589200" y="3814920"/>
              <a:ext cx="20880" cy="601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3610080" y="3825360"/>
              <a:ext cx="93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3619440" y="3786120"/>
              <a:ext cx="972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629160" y="3786120"/>
              <a:ext cx="39600" cy="68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668760" y="3854520"/>
              <a:ext cx="9360" cy="601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3678120" y="3875040"/>
              <a:ext cx="972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3687840" y="3795840"/>
              <a:ext cx="1116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699000" y="3795840"/>
              <a:ext cx="1908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3718080" y="3736440"/>
              <a:ext cx="29880" cy="781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3747960" y="3727440"/>
              <a:ext cx="972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3757680" y="3627360"/>
              <a:ext cx="19080" cy="100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776760" y="3627360"/>
              <a:ext cx="9360" cy="208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3786120" y="2967120"/>
            <a:ext cx="3344760" cy="1154160"/>
            <a:chOff x="3786120" y="2967120"/>
            <a:chExt cx="3344760" cy="1154160"/>
          </a:xfrm>
        </p:grpSpPr>
        <p:sp>
          <p:nvSpPr>
            <p:cNvPr id="1279" name=""/>
            <p:cNvSpPr/>
            <p:nvPr/>
          </p:nvSpPr>
          <p:spPr>
            <a:xfrm>
              <a:off x="3786120" y="3648240"/>
              <a:ext cx="11160" cy="28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3797280" y="3647880"/>
              <a:ext cx="39600" cy="28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836880" y="3648240"/>
              <a:ext cx="9720" cy="58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846600" y="3706920"/>
              <a:ext cx="936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3855960" y="3755880"/>
              <a:ext cx="972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865680" y="3755880"/>
              <a:ext cx="9360" cy="39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3875040" y="3776400"/>
              <a:ext cx="3960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3914640" y="3687480"/>
              <a:ext cx="9720" cy="889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3924360" y="3676320"/>
              <a:ext cx="20520" cy="111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3944880" y="3638520"/>
              <a:ext cx="9720" cy="381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954600" y="3638520"/>
              <a:ext cx="9360" cy="68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963960" y="3706920"/>
              <a:ext cx="39600" cy="1587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003560" y="3865680"/>
              <a:ext cx="9720" cy="28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013280" y="3894120"/>
              <a:ext cx="1116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024440" y="3894120"/>
              <a:ext cx="9360" cy="58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033800" y="3952800"/>
              <a:ext cx="972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043520" y="3983040"/>
              <a:ext cx="3960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083120" y="4022640"/>
              <a:ext cx="9360" cy="986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4092480" y="4022640"/>
              <a:ext cx="9720" cy="986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02200" y="4022640"/>
              <a:ext cx="2052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4122720" y="3844800"/>
              <a:ext cx="9720" cy="1778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132440" y="3844800"/>
              <a:ext cx="39600" cy="208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172040" y="3865680"/>
              <a:ext cx="9360" cy="48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181400" y="3914640"/>
              <a:ext cx="972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4191120" y="3795480"/>
              <a:ext cx="9360" cy="1285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00480" y="3795840"/>
              <a:ext cx="11160" cy="298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4211640" y="3736440"/>
              <a:ext cx="38160" cy="889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49800" y="3736800"/>
              <a:ext cx="111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260960" y="3706920"/>
              <a:ext cx="9360" cy="48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70320" y="3706920"/>
              <a:ext cx="19080" cy="298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89400" y="3736800"/>
              <a:ext cx="1116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4300560" y="3736440"/>
              <a:ext cx="2844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4329000" y="3727440"/>
              <a:ext cx="2088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349880" y="3727440"/>
              <a:ext cx="9360" cy="1080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359240" y="3835440"/>
              <a:ext cx="9720" cy="58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368960" y="3894120"/>
              <a:ext cx="936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4378320" y="3825720"/>
              <a:ext cx="39600" cy="68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4417920" y="3746520"/>
              <a:ext cx="972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4427640" y="3727080"/>
              <a:ext cx="111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4438800" y="3687840"/>
              <a:ext cx="1908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457880" y="3687840"/>
              <a:ext cx="93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4467240" y="3598920"/>
              <a:ext cx="30240" cy="1080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497480" y="3598920"/>
              <a:ext cx="19080" cy="28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516560" y="3627360"/>
              <a:ext cx="93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4525920" y="3647880"/>
              <a:ext cx="11160" cy="28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4537080" y="3578400"/>
              <a:ext cx="9360" cy="698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546440" y="3578400"/>
              <a:ext cx="39960" cy="48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586400" y="3627360"/>
              <a:ext cx="93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4595760" y="3648240"/>
              <a:ext cx="972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05480" y="3648240"/>
              <a:ext cx="2052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4626000" y="3578400"/>
              <a:ext cx="9360" cy="698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635360" y="3578400"/>
              <a:ext cx="28800" cy="158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664160" y="3736800"/>
              <a:ext cx="2052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684680" y="3746520"/>
              <a:ext cx="972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694400" y="3765600"/>
              <a:ext cx="93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4703760" y="3727440"/>
              <a:ext cx="11160" cy="68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4714920" y="3648240"/>
              <a:ext cx="3816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4753080" y="3638160"/>
              <a:ext cx="1116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764240" y="3638520"/>
              <a:ext cx="936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4773600" y="3608280"/>
              <a:ext cx="1908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792680" y="3608280"/>
              <a:ext cx="93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4802040" y="3510000"/>
              <a:ext cx="30240" cy="117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832280" y="3510000"/>
              <a:ext cx="19080" cy="28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4851360" y="3489480"/>
              <a:ext cx="11160" cy="48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862520" y="3489480"/>
              <a:ext cx="9360" cy="10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71880" y="3500280"/>
              <a:ext cx="9720" cy="68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881600" y="3568680"/>
              <a:ext cx="3960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4921200" y="3568680"/>
              <a:ext cx="972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930920" y="3568680"/>
              <a:ext cx="93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4940280" y="3549240"/>
              <a:ext cx="111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51440" y="3549600"/>
              <a:ext cx="1908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4970520" y="3510000"/>
              <a:ext cx="3024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000760" y="3510000"/>
              <a:ext cx="1908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019840" y="3519360"/>
              <a:ext cx="936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5029200" y="3489480"/>
              <a:ext cx="1116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040360" y="3489480"/>
              <a:ext cx="936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049720" y="3489480"/>
              <a:ext cx="39960" cy="10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089680" y="3500280"/>
              <a:ext cx="936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5099040" y="3479400"/>
              <a:ext cx="9360" cy="205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108400" y="3479760"/>
              <a:ext cx="972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118120" y="3479760"/>
              <a:ext cx="2052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5138640" y="3460320"/>
              <a:ext cx="2880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5167440" y="3451320"/>
              <a:ext cx="1116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5178600" y="3400200"/>
              <a:ext cx="18720" cy="507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197320" y="3400560"/>
              <a:ext cx="972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5207040" y="3332160"/>
              <a:ext cx="9360" cy="68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5216400" y="3312720"/>
              <a:ext cx="399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256360" y="3313080"/>
              <a:ext cx="93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65720" y="3332160"/>
              <a:ext cx="11160" cy="58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5276880" y="3341160"/>
              <a:ext cx="93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286240" y="3341520"/>
              <a:ext cx="1908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305320" y="3371760"/>
              <a:ext cx="3024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5335560" y="3362040"/>
              <a:ext cx="9720" cy="28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345280" y="3301920"/>
              <a:ext cx="20520" cy="604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>
              <a:off x="5365800" y="3282480"/>
              <a:ext cx="93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5375160" y="3203640"/>
              <a:ext cx="972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5384880" y="3174840"/>
              <a:ext cx="39600" cy="28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24480" y="3174840"/>
              <a:ext cx="93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5433840" y="3193920"/>
              <a:ext cx="972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5443560" y="3163680"/>
              <a:ext cx="9360" cy="298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52920" y="3164040"/>
              <a:ext cx="2088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3800" y="3164040"/>
              <a:ext cx="30240" cy="298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5504040" y="3154320"/>
              <a:ext cx="936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5513400" y="3144960"/>
              <a:ext cx="1908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32480" y="3144960"/>
              <a:ext cx="9360" cy="680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41840" y="3213000"/>
              <a:ext cx="111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5553000" y="3212640"/>
              <a:ext cx="381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91160" y="3213000"/>
              <a:ext cx="111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02320" y="3262320"/>
              <a:ext cx="9360" cy="507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5611680" y="3301560"/>
              <a:ext cx="9720" cy="111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5621400" y="3282480"/>
              <a:ext cx="2052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5641920" y="3213000"/>
              <a:ext cx="28800" cy="698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670720" y="3203640"/>
              <a:ext cx="936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5680080" y="3193560"/>
              <a:ext cx="2052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5700600" y="3184560"/>
              <a:ext cx="972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10320" y="3184560"/>
              <a:ext cx="9360" cy="58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5719680" y="3193560"/>
              <a:ext cx="3960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5759280" y="3144960"/>
              <a:ext cx="9720" cy="48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5769000" y="3134880"/>
              <a:ext cx="1116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5780160" y="3056040"/>
              <a:ext cx="936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9520" y="3056040"/>
              <a:ext cx="972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99240" y="3095640"/>
              <a:ext cx="3960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38840" y="3105000"/>
              <a:ext cx="9360" cy="795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5848200" y="3154320"/>
              <a:ext cx="1908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5867280" y="3124080"/>
              <a:ext cx="111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5878440" y="3114720"/>
              <a:ext cx="972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5888160" y="3075120"/>
              <a:ext cx="3960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5927760" y="3006720"/>
              <a:ext cx="9360" cy="68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937120" y="3006720"/>
              <a:ext cx="972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5946840" y="3025800"/>
              <a:ext cx="93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956200" y="3025800"/>
              <a:ext cx="11160" cy="205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5967360" y="3016080"/>
              <a:ext cx="381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005520" y="3016080"/>
              <a:ext cx="11160" cy="795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6016680" y="3056040"/>
              <a:ext cx="936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026040" y="3056040"/>
              <a:ext cx="19080" cy="187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6045120" y="3223800"/>
              <a:ext cx="972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054840" y="3224160"/>
              <a:ext cx="39600" cy="147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V="1">
              <a:off x="6094440" y="3341520"/>
              <a:ext cx="111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105600" y="3233520"/>
              <a:ext cx="9360" cy="1076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114960" y="3233880"/>
              <a:ext cx="9720" cy="1076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6124680" y="3301920"/>
              <a:ext cx="936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134040" y="3301920"/>
              <a:ext cx="39600" cy="1285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173640" y="3430440"/>
              <a:ext cx="972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183360" y="3430440"/>
              <a:ext cx="93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6192720" y="3371400"/>
              <a:ext cx="20880" cy="889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6213600" y="3341520"/>
              <a:ext cx="93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6222960" y="3262320"/>
              <a:ext cx="3024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253200" y="3262320"/>
              <a:ext cx="1908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6272280" y="3282480"/>
              <a:ext cx="936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V="1">
              <a:off x="6281640" y="3203640"/>
              <a:ext cx="1116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V="1">
              <a:off x="6292800" y="3086280"/>
              <a:ext cx="9720" cy="117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6302520" y="3015720"/>
              <a:ext cx="39600" cy="70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342120" y="3016080"/>
              <a:ext cx="9360" cy="590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351480" y="3075120"/>
              <a:ext cx="9720" cy="205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6361200" y="3086280"/>
              <a:ext cx="2052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381720" y="3086280"/>
              <a:ext cx="972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391440" y="3086280"/>
              <a:ext cx="2844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6419880" y="3025800"/>
              <a:ext cx="20520" cy="604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440400" y="3025800"/>
              <a:ext cx="972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450120" y="3105000"/>
              <a:ext cx="936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6459480" y="3065040"/>
              <a:ext cx="972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469200" y="3065400"/>
              <a:ext cx="3960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6508800" y="3025440"/>
              <a:ext cx="111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519960" y="3025800"/>
              <a:ext cx="9360" cy="604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6529320" y="3006360"/>
              <a:ext cx="19080" cy="795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6548400" y="2967120"/>
              <a:ext cx="972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558120" y="2967120"/>
              <a:ext cx="2988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588000" y="3006720"/>
              <a:ext cx="1908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607080" y="3016080"/>
              <a:ext cx="11160" cy="986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618240" y="3114720"/>
              <a:ext cx="9720" cy="601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627960" y="3174840"/>
              <a:ext cx="93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6637320" y="3144960"/>
              <a:ext cx="39600" cy="48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676920" y="3144960"/>
              <a:ext cx="972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6686640" y="3104640"/>
              <a:ext cx="93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696000" y="3105000"/>
              <a:ext cx="20880" cy="1288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16880" y="3233880"/>
              <a:ext cx="936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726240" y="3233880"/>
              <a:ext cx="30240" cy="166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6756480" y="3312720"/>
              <a:ext cx="19080" cy="874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775560" y="3313080"/>
              <a:ext cx="9360" cy="684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6784920" y="3301560"/>
              <a:ext cx="9720" cy="795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794640" y="3301920"/>
              <a:ext cx="10800" cy="208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805440" y="3322800"/>
              <a:ext cx="39960" cy="777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6845400" y="3381120"/>
              <a:ext cx="93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6854760" y="3252600"/>
              <a:ext cx="9720" cy="1285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864480" y="3252960"/>
              <a:ext cx="9360" cy="601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873840" y="3313080"/>
              <a:ext cx="2052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6894360" y="3273480"/>
              <a:ext cx="2880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923160" y="3273480"/>
              <a:ext cx="20520" cy="28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6943680" y="3224160"/>
              <a:ext cx="9720" cy="777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6953400" y="3193920"/>
              <a:ext cx="93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962760" y="3193920"/>
              <a:ext cx="9720" cy="39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6972480" y="3203640"/>
              <a:ext cx="3960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012080" y="3203640"/>
              <a:ext cx="936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7021440" y="3243240"/>
              <a:ext cx="1116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7032600" y="3233880"/>
              <a:ext cx="972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7042320" y="3153960"/>
              <a:ext cx="18720" cy="795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7061040" y="3114720"/>
              <a:ext cx="3024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091280" y="3114720"/>
              <a:ext cx="972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101000" y="3114720"/>
              <a:ext cx="2052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7121520" y="3134880"/>
              <a:ext cx="93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838080" y="3036600"/>
            <a:ext cx="7446960" cy="2376720"/>
            <a:chOff x="838080" y="3036600"/>
            <a:chExt cx="7446960" cy="2376720"/>
          </a:xfrm>
        </p:grpSpPr>
        <p:sp>
          <p:nvSpPr>
            <p:cNvPr id="1480" name=""/>
            <p:cNvSpPr/>
            <p:nvPr/>
          </p:nvSpPr>
          <p:spPr>
            <a:xfrm>
              <a:off x="7130880" y="3135240"/>
              <a:ext cx="972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140600" y="3154320"/>
              <a:ext cx="39600" cy="889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7180200" y="3184200"/>
              <a:ext cx="9720" cy="58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7189920" y="3124080"/>
              <a:ext cx="9360" cy="604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199280" y="3124080"/>
              <a:ext cx="972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7209000" y="3085920"/>
              <a:ext cx="20520" cy="37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229520" y="3086280"/>
              <a:ext cx="3024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259760" y="3086280"/>
              <a:ext cx="9360" cy="680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7269120" y="3114720"/>
              <a:ext cx="1908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7288200" y="3055680"/>
              <a:ext cx="9360" cy="58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297560" y="3056040"/>
              <a:ext cx="111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7308720" y="3036600"/>
              <a:ext cx="381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46880" y="3036960"/>
              <a:ext cx="111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358040" y="3056040"/>
              <a:ext cx="972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367760" y="3095640"/>
              <a:ext cx="9360" cy="28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377120" y="3124080"/>
              <a:ext cx="19080" cy="604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7396200" y="3174480"/>
              <a:ext cx="3024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426440" y="3174840"/>
              <a:ext cx="93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435800" y="3224160"/>
              <a:ext cx="2052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7456320" y="3203280"/>
              <a:ext cx="9720" cy="205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466040" y="3203640"/>
              <a:ext cx="936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475400" y="3203640"/>
              <a:ext cx="399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515360" y="3233880"/>
              <a:ext cx="936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524720" y="3233880"/>
              <a:ext cx="972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534440" y="3243240"/>
              <a:ext cx="10800" cy="58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545240" y="3301920"/>
              <a:ext cx="19080" cy="18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564320" y="3301920"/>
              <a:ext cx="3024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7594560" y="3312720"/>
              <a:ext cx="9720" cy="28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7604280" y="3261960"/>
              <a:ext cx="18720" cy="507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623000" y="3262320"/>
              <a:ext cx="11160" cy="109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634160" y="3371760"/>
              <a:ext cx="972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643880" y="3381480"/>
              <a:ext cx="39600" cy="58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7683480" y="3381120"/>
              <a:ext cx="9720" cy="58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7693200" y="3362040"/>
              <a:ext cx="93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7702560" y="3252960"/>
              <a:ext cx="9360" cy="109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7711920" y="3242880"/>
              <a:ext cx="11160" cy="97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723080" y="3243240"/>
              <a:ext cx="3816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7761240" y="3233880"/>
              <a:ext cx="11160" cy="48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772400" y="3233880"/>
              <a:ext cx="1908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7791480" y="3282840"/>
              <a:ext cx="93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800840" y="3282840"/>
              <a:ext cx="9720" cy="1684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810560" y="3451320"/>
              <a:ext cx="39600" cy="48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7850160" y="3439800"/>
              <a:ext cx="11160" cy="601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861320" y="3440160"/>
              <a:ext cx="93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70680" y="3489480"/>
              <a:ext cx="9720" cy="205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880400" y="3510000"/>
              <a:ext cx="936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7889760" y="3470400"/>
              <a:ext cx="39960" cy="48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V="1">
              <a:off x="7929720" y="3440160"/>
              <a:ext cx="93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7939080" y="3420720"/>
              <a:ext cx="93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948440" y="3421080"/>
              <a:ext cx="2088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969320" y="3421080"/>
              <a:ext cx="936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7978680" y="3341160"/>
              <a:ext cx="39960" cy="889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8018640" y="3332160"/>
              <a:ext cx="936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028000" y="3332160"/>
              <a:ext cx="936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8037360" y="3273120"/>
              <a:ext cx="11160" cy="586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8048520" y="3243240"/>
              <a:ext cx="972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058240" y="3243240"/>
              <a:ext cx="3960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097840" y="3262320"/>
              <a:ext cx="9360" cy="698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8107200" y="3301920"/>
              <a:ext cx="972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8116920" y="3262320"/>
              <a:ext cx="19080" cy="396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8136000" y="3212640"/>
              <a:ext cx="11160" cy="4932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8147160" y="3203640"/>
              <a:ext cx="2844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8175600" y="3184200"/>
              <a:ext cx="2052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196120" y="3184560"/>
              <a:ext cx="9720" cy="93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205840" y="3193920"/>
              <a:ext cx="9360" cy="39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8215200" y="3193560"/>
              <a:ext cx="9720" cy="3996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8224920" y="3114720"/>
              <a:ext cx="39600" cy="7920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264520" y="3114720"/>
              <a:ext cx="9360" cy="302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273880" y="3144960"/>
              <a:ext cx="11160" cy="1908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38080" y="4240080"/>
              <a:ext cx="9720" cy="1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847800" y="3943440"/>
              <a:ext cx="9360" cy="2966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57160" y="3943440"/>
              <a:ext cx="972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866880" y="3924000"/>
              <a:ext cx="3960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906480" y="3924360"/>
              <a:ext cx="936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915840" y="3983040"/>
              <a:ext cx="11160" cy="119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927000" y="4012920"/>
              <a:ext cx="19080" cy="88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946080" y="4013280"/>
              <a:ext cx="972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955800" y="3992400"/>
              <a:ext cx="29880" cy="208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985680" y="3973680"/>
              <a:ext cx="19080" cy="18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004760" y="3973680"/>
              <a:ext cx="1116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015920" y="4032360"/>
              <a:ext cx="972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025640" y="4041720"/>
              <a:ext cx="9360" cy="187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035000" y="4229280"/>
              <a:ext cx="39600" cy="792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74600" y="4308480"/>
              <a:ext cx="972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84320" y="4367160"/>
              <a:ext cx="9360" cy="109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093680" y="4476600"/>
              <a:ext cx="972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103400" y="4495680"/>
              <a:ext cx="20520" cy="79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123920" y="4575240"/>
              <a:ext cx="30240" cy="1681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1154160" y="4731840"/>
              <a:ext cx="19080" cy="11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1173240" y="4673160"/>
              <a:ext cx="936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>
              <a:off x="1182600" y="4565520"/>
              <a:ext cx="9720" cy="1080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1192320" y="4544640"/>
              <a:ext cx="11160" cy="20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1203480" y="4495320"/>
              <a:ext cx="3780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241280" y="4495680"/>
              <a:ext cx="11160" cy="187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1252440" y="4593960"/>
              <a:ext cx="9720" cy="88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262160" y="4594320"/>
              <a:ext cx="9360" cy="118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271520" y="4713120"/>
              <a:ext cx="20880" cy="79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292400" y="4792680"/>
              <a:ext cx="2844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V="1">
              <a:off x="1320840" y="4673520"/>
              <a:ext cx="9360" cy="138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330200" y="4673520"/>
              <a:ext cx="20880" cy="1080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351080" y="4781520"/>
              <a:ext cx="936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1360440" y="4643280"/>
              <a:ext cx="9720" cy="168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1370160" y="4554000"/>
              <a:ext cx="39600" cy="88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1409760" y="4467240"/>
              <a:ext cx="9360" cy="871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419120" y="4467240"/>
              <a:ext cx="11160" cy="166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430280" y="4633920"/>
              <a:ext cx="9720" cy="69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1440000" y="4633920"/>
              <a:ext cx="19080" cy="69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459080" y="4633920"/>
              <a:ext cx="29880" cy="982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488960" y="4732200"/>
              <a:ext cx="9720" cy="177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498680" y="4910040"/>
              <a:ext cx="1908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V="1">
              <a:off x="1517760" y="4860720"/>
              <a:ext cx="11160" cy="982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1528920" y="4781160"/>
              <a:ext cx="9360" cy="79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1538280" y="4772160"/>
              <a:ext cx="3960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577880" y="4772160"/>
              <a:ext cx="9720" cy="109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587600" y="4881600"/>
              <a:ext cx="9360" cy="28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596960" y="4910040"/>
              <a:ext cx="9720" cy="79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606680" y="4989600"/>
              <a:ext cx="20520" cy="1080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627200" y="5097600"/>
              <a:ext cx="28440" cy="128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655640" y="5226120"/>
              <a:ext cx="1116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666800" y="5226120"/>
              <a:ext cx="19080" cy="1872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1685880" y="5136840"/>
              <a:ext cx="9720" cy="2761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1695600" y="4909680"/>
              <a:ext cx="9360" cy="227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1704960" y="4743000"/>
              <a:ext cx="39600" cy="166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744560" y="4743360"/>
              <a:ext cx="11160" cy="9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1755720" y="4673160"/>
              <a:ext cx="9720" cy="79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765440" y="4673520"/>
              <a:ext cx="9360" cy="69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V="1">
              <a:off x="1774800" y="4535280"/>
              <a:ext cx="19080" cy="207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793880" y="4535640"/>
              <a:ext cx="30240" cy="2761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1824120" y="4682880"/>
              <a:ext cx="9360" cy="128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833480" y="4683240"/>
              <a:ext cx="20880" cy="20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854360" y="4703760"/>
              <a:ext cx="9360" cy="88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863720" y="4792680"/>
              <a:ext cx="936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873080" y="4792680"/>
              <a:ext cx="39960" cy="2160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1913040" y="4940280"/>
              <a:ext cx="9360" cy="684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1922400" y="4732200"/>
              <a:ext cx="9720" cy="208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1932120" y="4683240"/>
              <a:ext cx="11160" cy="48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1943280" y="4593960"/>
              <a:ext cx="9360" cy="88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1952640" y="4397040"/>
              <a:ext cx="39600" cy="196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992240" y="4397400"/>
              <a:ext cx="9720" cy="69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001960" y="4467240"/>
              <a:ext cx="1908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021040" y="4476600"/>
              <a:ext cx="10800" cy="117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2031840" y="4544640"/>
              <a:ext cx="972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2041560" y="4485960"/>
              <a:ext cx="3960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2081160" y="4387680"/>
              <a:ext cx="9720" cy="986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090880" y="4387680"/>
              <a:ext cx="936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100240" y="4377960"/>
              <a:ext cx="972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09960" y="4378320"/>
              <a:ext cx="936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119320" y="4378320"/>
              <a:ext cx="3960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2158920" y="4338720"/>
              <a:ext cx="1116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2170080" y="4289040"/>
              <a:ext cx="972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179800" y="4289400"/>
              <a:ext cx="18720" cy="117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198520" y="4406760"/>
              <a:ext cx="9720" cy="79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2208240" y="4328640"/>
              <a:ext cx="39600" cy="157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247840" y="4329000"/>
              <a:ext cx="972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257560" y="4378320"/>
              <a:ext cx="1080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268360" y="4378320"/>
              <a:ext cx="972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278080" y="4378320"/>
              <a:ext cx="936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2287440" y="4317840"/>
              <a:ext cx="39960" cy="60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2327400" y="4229280"/>
              <a:ext cx="9360" cy="88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336760" y="4229280"/>
              <a:ext cx="9720" cy="792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346480" y="4308480"/>
              <a:ext cx="20520" cy="147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2367000" y="4397040"/>
              <a:ext cx="936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2376360" y="4387320"/>
              <a:ext cx="30240" cy="9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406600" y="4387680"/>
              <a:ext cx="19080" cy="9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425680" y="4397400"/>
              <a:ext cx="972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2435400" y="4329000"/>
              <a:ext cx="9360" cy="777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2444760" y="4317480"/>
              <a:ext cx="11160" cy="11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455920" y="4317840"/>
              <a:ext cx="39600" cy="227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495520" y="4545000"/>
              <a:ext cx="972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505240" y="4545000"/>
              <a:ext cx="936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2514600" y="4516200"/>
              <a:ext cx="19080" cy="680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533680" y="4516560"/>
              <a:ext cx="11160" cy="28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544840" y="4545000"/>
              <a:ext cx="2844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2573280" y="4516200"/>
              <a:ext cx="20520" cy="37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2593800" y="4406400"/>
              <a:ext cx="9720" cy="109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603520" y="4406760"/>
              <a:ext cx="9360" cy="1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2612880" y="4367160"/>
              <a:ext cx="972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2622600" y="4259160"/>
              <a:ext cx="39600" cy="1080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662200" y="4259160"/>
              <a:ext cx="972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2671920" y="4219200"/>
              <a:ext cx="1080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682720" y="4219560"/>
              <a:ext cx="19080" cy="69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2701800" y="4160520"/>
              <a:ext cx="9720" cy="128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711520" y="4160880"/>
              <a:ext cx="30240" cy="792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V="1">
              <a:off x="2741760" y="4191120"/>
              <a:ext cx="19080" cy="48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2760840" y="4091040"/>
              <a:ext cx="10800" cy="100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2771640" y="4032000"/>
              <a:ext cx="972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781360" y="4032360"/>
              <a:ext cx="9360" cy="88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V="1">
              <a:off x="2790720" y="4003200"/>
              <a:ext cx="39960" cy="117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2830680" y="3973320"/>
              <a:ext cx="9360" cy="298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V="1">
              <a:off x="2840040" y="3933360"/>
              <a:ext cx="9360" cy="39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849400" y="3933720"/>
              <a:ext cx="20880" cy="79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V="1">
              <a:off x="2870280" y="3952800"/>
              <a:ext cx="9360" cy="60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879640" y="3952800"/>
              <a:ext cx="28800" cy="1494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908440" y="4102200"/>
              <a:ext cx="2052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2928960" y="4090680"/>
              <a:ext cx="9360" cy="20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938320" y="4091040"/>
              <a:ext cx="972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948040" y="4091040"/>
              <a:ext cx="1116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959200" y="4091040"/>
              <a:ext cx="38160" cy="792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997360" y="4170240"/>
              <a:ext cx="10800" cy="1080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V="1">
              <a:off x="3008160" y="4160880"/>
              <a:ext cx="9720" cy="117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3017880" y="2985840"/>
            <a:ext cx="3343320" cy="1233720"/>
            <a:chOff x="3017880" y="2985840"/>
            <a:chExt cx="3343320" cy="1233720"/>
          </a:xfrm>
        </p:grpSpPr>
        <p:sp>
          <p:nvSpPr>
            <p:cNvPr id="1681" name=""/>
            <p:cNvSpPr/>
            <p:nvPr/>
          </p:nvSpPr>
          <p:spPr>
            <a:xfrm>
              <a:off x="3017880" y="4160880"/>
              <a:ext cx="936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027240" y="4160880"/>
              <a:ext cx="1908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3046320" y="4022640"/>
              <a:ext cx="30240" cy="168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3076560" y="4003200"/>
              <a:ext cx="2052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097080" y="4003560"/>
              <a:ext cx="972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106800" y="4052880"/>
              <a:ext cx="9360" cy="684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3116160" y="4041360"/>
              <a:ext cx="9720" cy="79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3125880" y="3952440"/>
              <a:ext cx="39600" cy="88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165480" y="3952800"/>
              <a:ext cx="936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174840" y="3983040"/>
              <a:ext cx="972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184560" y="4013280"/>
              <a:ext cx="11160" cy="88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3195720" y="4081320"/>
              <a:ext cx="19080" cy="208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214800" y="4081320"/>
              <a:ext cx="29880" cy="88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3244680" y="4130640"/>
              <a:ext cx="972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54400" y="4130640"/>
              <a:ext cx="19080" cy="20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3273480" y="4032360"/>
              <a:ext cx="11160" cy="118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284640" y="4032360"/>
              <a:ext cx="9360" cy="88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3294000" y="4022640"/>
              <a:ext cx="39600" cy="986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333600" y="4022640"/>
              <a:ext cx="972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3343320" y="4022640"/>
              <a:ext cx="936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V="1">
              <a:off x="3352680" y="3943440"/>
              <a:ext cx="9720" cy="792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362400" y="3943440"/>
              <a:ext cx="20520" cy="88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382920" y="4032360"/>
              <a:ext cx="28440" cy="48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3411360" y="4032360"/>
              <a:ext cx="11160" cy="48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22520" y="4032360"/>
              <a:ext cx="19080" cy="982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441600" y="4130640"/>
              <a:ext cx="9720" cy="1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V="1">
              <a:off x="3451320" y="4080960"/>
              <a:ext cx="936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3460680" y="4032360"/>
              <a:ext cx="39600" cy="48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3500280" y="4003560"/>
              <a:ext cx="9720" cy="28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3510000" y="3992040"/>
              <a:ext cx="11160" cy="11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>
              <a:off x="3521160" y="3893760"/>
              <a:ext cx="9360" cy="982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3530520" y="3884760"/>
              <a:ext cx="1908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3549600" y="3825720"/>
              <a:ext cx="30240" cy="590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3579840" y="3814920"/>
              <a:ext cx="9360" cy="10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589200" y="3814920"/>
              <a:ext cx="2088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>
              <a:off x="3610080" y="3804840"/>
              <a:ext cx="936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V="1">
              <a:off x="3619440" y="3785760"/>
              <a:ext cx="972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629160" y="3786120"/>
              <a:ext cx="3960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668760" y="3844800"/>
              <a:ext cx="9360" cy="69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3678120" y="3854160"/>
              <a:ext cx="9720" cy="601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3687840" y="3825720"/>
              <a:ext cx="11160" cy="28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699000" y="3825720"/>
              <a:ext cx="19080" cy="39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3718080" y="3765600"/>
              <a:ext cx="29880" cy="100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747960" y="3765600"/>
              <a:ext cx="9720" cy="11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3757680" y="3676680"/>
              <a:ext cx="19080" cy="100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776760" y="3676680"/>
              <a:ext cx="9360" cy="11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786120" y="3687840"/>
              <a:ext cx="11160" cy="48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3797280" y="3697200"/>
              <a:ext cx="3960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836880" y="3697200"/>
              <a:ext cx="9720" cy="684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846600" y="3765600"/>
              <a:ext cx="9360" cy="792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V="1">
              <a:off x="3855960" y="3835440"/>
              <a:ext cx="972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865680" y="3835440"/>
              <a:ext cx="936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3875040" y="3865320"/>
              <a:ext cx="3960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914640" y="3805200"/>
              <a:ext cx="9720" cy="60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3924360" y="3795840"/>
              <a:ext cx="2052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3944880" y="3755520"/>
              <a:ext cx="9720" cy="39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54600" y="3755880"/>
              <a:ext cx="936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63960" y="3805200"/>
              <a:ext cx="39600" cy="1587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03560" y="3963960"/>
              <a:ext cx="972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13280" y="4003560"/>
              <a:ext cx="11160" cy="38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24440" y="4041720"/>
              <a:ext cx="936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33800" y="4071960"/>
              <a:ext cx="972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043520" y="4102200"/>
              <a:ext cx="3960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83120" y="4121280"/>
              <a:ext cx="9360" cy="982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V="1">
              <a:off x="4092480" y="4120920"/>
              <a:ext cx="9720" cy="982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102200" y="4121280"/>
              <a:ext cx="2052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4122720" y="3952800"/>
              <a:ext cx="9720" cy="177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132440" y="3952800"/>
              <a:ext cx="3960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172040" y="3992400"/>
              <a:ext cx="936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181400" y="4041720"/>
              <a:ext cx="9720" cy="11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V="1">
              <a:off x="4191120" y="3924000"/>
              <a:ext cx="9360" cy="128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200480" y="3924360"/>
              <a:ext cx="11160" cy="28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4211640" y="3854160"/>
              <a:ext cx="38160" cy="982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249800" y="3854520"/>
              <a:ext cx="11160" cy="20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V="1">
              <a:off x="4260960" y="3835440"/>
              <a:ext cx="936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270320" y="3835440"/>
              <a:ext cx="1908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289400" y="3865680"/>
              <a:ext cx="1116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300560" y="3875040"/>
              <a:ext cx="28440" cy="1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V="1">
              <a:off x="4329000" y="3854160"/>
              <a:ext cx="20880" cy="20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349880" y="3854520"/>
              <a:ext cx="9360" cy="119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59240" y="3973680"/>
              <a:ext cx="972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368960" y="4013280"/>
              <a:ext cx="936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4378320" y="3963960"/>
              <a:ext cx="39600" cy="684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4417920" y="3894120"/>
              <a:ext cx="9720" cy="69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>
              <a:off x="4427640" y="3865320"/>
              <a:ext cx="11160" cy="28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4438800" y="3835440"/>
              <a:ext cx="1908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4457880" y="3825360"/>
              <a:ext cx="9360" cy="9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4467240" y="3706920"/>
              <a:ext cx="30240" cy="118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497480" y="3706920"/>
              <a:ext cx="1908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516560" y="3706920"/>
              <a:ext cx="936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525920" y="3716280"/>
              <a:ext cx="1116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4537080" y="3647880"/>
              <a:ext cx="9360" cy="680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546440" y="3648240"/>
              <a:ext cx="39960" cy="48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586400" y="3697200"/>
              <a:ext cx="936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4595760" y="3715920"/>
              <a:ext cx="9720" cy="11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4605480" y="3687480"/>
              <a:ext cx="20520" cy="28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4626000" y="3648240"/>
              <a:ext cx="936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635360" y="3648240"/>
              <a:ext cx="28800" cy="156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664160" y="3805200"/>
              <a:ext cx="20520" cy="1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684680" y="3805200"/>
              <a:ext cx="9720" cy="20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694400" y="3825720"/>
              <a:ext cx="936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4703760" y="3814560"/>
              <a:ext cx="11160" cy="298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4714920" y="3696840"/>
              <a:ext cx="38160" cy="117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753080" y="3697200"/>
              <a:ext cx="1116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764240" y="3716280"/>
              <a:ext cx="9360" cy="11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773600" y="3697200"/>
              <a:ext cx="1908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792680" y="3697200"/>
              <a:ext cx="9360" cy="9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802040" y="3608280"/>
              <a:ext cx="30240" cy="986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832280" y="3608280"/>
              <a:ext cx="1908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4851360" y="3568320"/>
              <a:ext cx="1116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862520" y="3568680"/>
              <a:ext cx="936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871880" y="3568680"/>
              <a:ext cx="972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881600" y="3618000"/>
              <a:ext cx="3960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4921200" y="3607920"/>
              <a:ext cx="972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930920" y="3608280"/>
              <a:ext cx="936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4940280" y="3588840"/>
              <a:ext cx="1116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951440" y="3589200"/>
              <a:ext cx="19080" cy="1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4970520" y="3558960"/>
              <a:ext cx="30240" cy="298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000760" y="3559320"/>
              <a:ext cx="1908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019840" y="3559320"/>
              <a:ext cx="936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5029200" y="3519000"/>
              <a:ext cx="1116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5040360" y="3499920"/>
              <a:ext cx="936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049720" y="3500280"/>
              <a:ext cx="3996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V="1">
              <a:off x="5089680" y="3510000"/>
              <a:ext cx="936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5099040" y="3499920"/>
              <a:ext cx="9360" cy="9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108400" y="3500280"/>
              <a:ext cx="9720" cy="1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118120" y="3500280"/>
              <a:ext cx="20520" cy="1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5138640" y="3460680"/>
              <a:ext cx="2880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5167440" y="3439800"/>
              <a:ext cx="11160" cy="20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V="1">
              <a:off x="5178600" y="3420720"/>
              <a:ext cx="1872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197320" y="3421080"/>
              <a:ext cx="972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5207040" y="3341160"/>
              <a:ext cx="9360" cy="79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5216400" y="3312720"/>
              <a:ext cx="39960" cy="28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256360" y="3313080"/>
              <a:ext cx="9360" cy="9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265720" y="3322800"/>
              <a:ext cx="11160" cy="48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5276880" y="3282480"/>
              <a:ext cx="9360" cy="88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286240" y="3282840"/>
              <a:ext cx="1908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305320" y="3332160"/>
              <a:ext cx="3024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5335560" y="3331800"/>
              <a:ext cx="972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5345280" y="3273120"/>
              <a:ext cx="2052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V="1">
              <a:off x="5365800" y="3243240"/>
              <a:ext cx="936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5375160" y="3184200"/>
              <a:ext cx="972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5384880" y="3154320"/>
              <a:ext cx="3960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424480" y="3154320"/>
              <a:ext cx="936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5433840" y="3174840"/>
              <a:ext cx="9720" cy="28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V="1">
              <a:off x="5443560" y="3135240"/>
              <a:ext cx="936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452920" y="3135240"/>
              <a:ext cx="20880" cy="1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473800" y="3135240"/>
              <a:ext cx="3024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5504040" y="3144600"/>
              <a:ext cx="9360" cy="298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V="1">
              <a:off x="5513400" y="3124080"/>
              <a:ext cx="19080" cy="208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532480" y="3124080"/>
              <a:ext cx="9360" cy="79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541840" y="3203640"/>
              <a:ext cx="1116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5553000" y="3213000"/>
              <a:ext cx="3816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591160" y="3213000"/>
              <a:ext cx="1116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602320" y="3243240"/>
              <a:ext cx="936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611680" y="3292560"/>
              <a:ext cx="972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V="1">
              <a:off x="5621400" y="3262320"/>
              <a:ext cx="2052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V="1">
              <a:off x="5641920" y="3174480"/>
              <a:ext cx="28800" cy="87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V="1">
              <a:off x="5670720" y="3153960"/>
              <a:ext cx="9360" cy="20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5680080" y="3134880"/>
              <a:ext cx="2052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V="1">
              <a:off x="5700600" y="3123720"/>
              <a:ext cx="9720" cy="11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710320" y="3124080"/>
              <a:ext cx="9360" cy="79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5719680" y="3164040"/>
              <a:ext cx="3960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5759280" y="3123720"/>
              <a:ext cx="9720" cy="39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5769000" y="3114720"/>
              <a:ext cx="1116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V="1">
              <a:off x="5780160" y="3046320"/>
              <a:ext cx="9360" cy="684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89520" y="3046320"/>
              <a:ext cx="972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5799240" y="3095640"/>
              <a:ext cx="3960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838840" y="3095640"/>
              <a:ext cx="9360" cy="88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5848200" y="3174480"/>
              <a:ext cx="19080" cy="9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5867280" y="3153960"/>
              <a:ext cx="11160" cy="20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5878440" y="3124080"/>
              <a:ext cx="972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5888160" y="3075120"/>
              <a:ext cx="39600" cy="48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V="1">
              <a:off x="5927760" y="3016080"/>
              <a:ext cx="9360" cy="590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937120" y="3016080"/>
              <a:ext cx="9720" cy="39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V="1">
              <a:off x="5946840" y="2997000"/>
              <a:ext cx="936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956200" y="2997360"/>
              <a:ext cx="11160" cy="18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5967360" y="2985840"/>
              <a:ext cx="38160" cy="298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005520" y="2986200"/>
              <a:ext cx="11160" cy="792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016680" y="3065400"/>
              <a:ext cx="9360" cy="1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026040" y="3065400"/>
              <a:ext cx="19080" cy="196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045120" y="3262320"/>
              <a:ext cx="972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054840" y="3262320"/>
              <a:ext cx="39600" cy="1681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6094440" y="3390840"/>
              <a:ext cx="1116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6105600" y="3282840"/>
              <a:ext cx="9360" cy="1080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114960" y="3282840"/>
              <a:ext cx="9720" cy="138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6124680" y="3400200"/>
              <a:ext cx="9360" cy="20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134040" y="3400560"/>
              <a:ext cx="39600" cy="128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6173640" y="3519000"/>
              <a:ext cx="9720" cy="9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183360" y="3519360"/>
              <a:ext cx="936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6192720" y="3440160"/>
              <a:ext cx="20880" cy="109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6213600" y="3411360"/>
              <a:ext cx="9360" cy="28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6222960" y="3341520"/>
              <a:ext cx="30240" cy="69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253200" y="3341520"/>
              <a:ext cx="19080" cy="9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272280" y="3351240"/>
              <a:ext cx="9360" cy="11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6281640" y="3292560"/>
              <a:ext cx="11160" cy="69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6292800" y="3144960"/>
              <a:ext cx="9720" cy="147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6302520" y="3104640"/>
              <a:ext cx="39600" cy="39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342120" y="3105000"/>
              <a:ext cx="9360" cy="88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351480" y="3193920"/>
              <a:ext cx="972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838080" y="3123720"/>
            <a:ext cx="7446960" cy="1629360"/>
            <a:chOff x="838080" y="3123720"/>
            <a:chExt cx="7446960" cy="1629360"/>
          </a:xfrm>
        </p:grpSpPr>
        <p:sp>
          <p:nvSpPr>
            <p:cNvPr id="1882" name=""/>
            <p:cNvSpPr/>
            <p:nvPr/>
          </p:nvSpPr>
          <p:spPr>
            <a:xfrm flipV="1">
              <a:off x="6361200" y="3203280"/>
              <a:ext cx="20520" cy="20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381720" y="3203640"/>
              <a:ext cx="972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391440" y="3203640"/>
              <a:ext cx="2844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6419880" y="3135240"/>
              <a:ext cx="20520" cy="684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440400" y="3135240"/>
              <a:ext cx="9720" cy="777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450120" y="3213000"/>
              <a:ext cx="9360" cy="1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6459480" y="3184200"/>
              <a:ext cx="9720" cy="28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469200" y="3184560"/>
              <a:ext cx="3960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508800" y="3164040"/>
              <a:ext cx="1116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519960" y="3164040"/>
              <a:ext cx="9360" cy="48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6529320" y="3164040"/>
              <a:ext cx="19080" cy="48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6548400" y="3123720"/>
              <a:ext cx="9720" cy="39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558120" y="3124080"/>
              <a:ext cx="29880" cy="208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588000" y="3144960"/>
              <a:ext cx="1908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607080" y="3144960"/>
              <a:ext cx="11160" cy="1080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618240" y="3252960"/>
              <a:ext cx="9720" cy="69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627960" y="3322800"/>
              <a:ext cx="936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6637320" y="3322800"/>
              <a:ext cx="3960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676920" y="3322800"/>
              <a:ext cx="972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86640" y="3282480"/>
              <a:ext cx="936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696000" y="3282840"/>
              <a:ext cx="20880" cy="128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716880" y="3411360"/>
              <a:ext cx="936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26240" y="3430440"/>
              <a:ext cx="30240" cy="1587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6756480" y="3510000"/>
              <a:ext cx="19080" cy="792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75560" y="3510000"/>
              <a:ext cx="9360" cy="88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6784920" y="3529080"/>
              <a:ext cx="9720" cy="69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794640" y="3529080"/>
              <a:ext cx="1080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805440" y="3559320"/>
              <a:ext cx="39960" cy="792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>
              <a:off x="6845400" y="3608280"/>
              <a:ext cx="936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6854760" y="3489480"/>
              <a:ext cx="9720" cy="118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864480" y="3489480"/>
              <a:ext cx="936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873840" y="3529080"/>
              <a:ext cx="2052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6894360" y="3519000"/>
              <a:ext cx="28800" cy="39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923160" y="3519360"/>
              <a:ext cx="2052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6943680" y="3489120"/>
              <a:ext cx="9720" cy="601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V="1">
              <a:off x="6953400" y="3439800"/>
              <a:ext cx="936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962760" y="3440160"/>
              <a:ext cx="972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972480" y="3470400"/>
              <a:ext cx="3960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012080" y="3470400"/>
              <a:ext cx="9360" cy="48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7021440" y="3489120"/>
              <a:ext cx="11160" cy="298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7032600" y="3470040"/>
              <a:ext cx="972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7042320" y="3400560"/>
              <a:ext cx="18720" cy="69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7061040" y="3332160"/>
              <a:ext cx="30240" cy="684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091280" y="3332160"/>
              <a:ext cx="972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101000" y="3332160"/>
              <a:ext cx="2052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7121520" y="3332160"/>
              <a:ext cx="936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130880" y="3332160"/>
              <a:ext cx="972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140600" y="3341520"/>
              <a:ext cx="39600" cy="79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7180200" y="3362040"/>
              <a:ext cx="972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7189920" y="3322800"/>
              <a:ext cx="936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199280" y="3322800"/>
              <a:ext cx="972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V="1">
              <a:off x="7209000" y="3282480"/>
              <a:ext cx="20520" cy="39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229520" y="3282840"/>
              <a:ext cx="30240" cy="9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259760" y="3292560"/>
              <a:ext cx="9360" cy="792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7269120" y="3350880"/>
              <a:ext cx="19080" cy="20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7288200" y="3282840"/>
              <a:ext cx="9360" cy="684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297560" y="3282840"/>
              <a:ext cx="11160" cy="9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7308720" y="3242880"/>
              <a:ext cx="3816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346880" y="3243240"/>
              <a:ext cx="1116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358040" y="3273480"/>
              <a:ext cx="972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367760" y="3313080"/>
              <a:ext cx="9360" cy="9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377120" y="3322800"/>
              <a:ext cx="19080" cy="48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7396200" y="3362400"/>
              <a:ext cx="3024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426440" y="3362400"/>
              <a:ext cx="9360" cy="48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435800" y="3411360"/>
              <a:ext cx="20520" cy="1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7456320" y="3381120"/>
              <a:ext cx="9720" cy="298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466040" y="3381480"/>
              <a:ext cx="936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475400" y="3381480"/>
              <a:ext cx="3996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7515360" y="3411000"/>
              <a:ext cx="9360" cy="9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524720" y="3411360"/>
              <a:ext cx="972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7534440" y="3430440"/>
              <a:ext cx="10800" cy="889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545240" y="3519360"/>
              <a:ext cx="19080" cy="1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564320" y="3519360"/>
              <a:ext cx="30240" cy="39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7594560" y="3538440"/>
              <a:ext cx="9720" cy="208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7604280" y="3489480"/>
              <a:ext cx="18720" cy="48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623000" y="3489480"/>
              <a:ext cx="11160" cy="109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634160" y="3598920"/>
              <a:ext cx="972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43880" y="3608280"/>
              <a:ext cx="39600" cy="79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7683480" y="3618000"/>
              <a:ext cx="9720" cy="698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693200" y="3618000"/>
              <a:ext cx="936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V="1">
              <a:off x="7702560" y="3510000"/>
              <a:ext cx="9360" cy="117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711920" y="3510000"/>
              <a:ext cx="1116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723080" y="3510000"/>
              <a:ext cx="3816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7761240" y="3529080"/>
              <a:ext cx="11160" cy="302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772400" y="3529080"/>
              <a:ext cx="19080" cy="601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7791480" y="3578400"/>
              <a:ext cx="9360" cy="10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800840" y="3578400"/>
              <a:ext cx="9720" cy="1490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810560" y="3727440"/>
              <a:ext cx="3960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850160" y="3727080"/>
              <a:ext cx="1116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861320" y="3727440"/>
              <a:ext cx="936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870680" y="3786120"/>
              <a:ext cx="9720" cy="97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880400" y="3795840"/>
              <a:ext cx="936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V="1">
              <a:off x="7889760" y="3765240"/>
              <a:ext cx="3996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V="1">
              <a:off x="7929720" y="3736800"/>
              <a:ext cx="9360" cy="288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7939080" y="3706560"/>
              <a:ext cx="9360" cy="298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948440" y="3706920"/>
              <a:ext cx="2088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969320" y="3706920"/>
              <a:ext cx="9360" cy="93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7978680" y="3638520"/>
              <a:ext cx="39960" cy="777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8018640" y="3638520"/>
              <a:ext cx="936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8028000" y="3627000"/>
              <a:ext cx="9360" cy="11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8037360" y="3578400"/>
              <a:ext cx="11160" cy="48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8048520" y="3538080"/>
              <a:ext cx="9720" cy="399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8058240" y="3538440"/>
              <a:ext cx="39600" cy="208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8097840" y="3559320"/>
              <a:ext cx="936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8107200" y="3568320"/>
              <a:ext cx="9720" cy="493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8116920" y="3529080"/>
              <a:ext cx="19080" cy="3960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8136000" y="3470040"/>
              <a:ext cx="11160" cy="586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8147160" y="3450960"/>
              <a:ext cx="2844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8175600" y="3439800"/>
              <a:ext cx="20520" cy="11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196120" y="3440160"/>
              <a:ext cx="9720" cy="11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205840" y="3451320"/>
              <a:ext cx="9360" cy="38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8215200" y="3451320"/>
              <a:ext cx="9720" cy="381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8224920" y="3371400"/>
              <a:ext cx="39600" cy="7956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264520" y="3371760"/>
              <a:ext cx="9360" cy="190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8273880" y="3390840"/>
              <a:ext cx="11160" cy="2052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38080" y="4240080"/>
              <a:ext cx="972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847800" y="4071600"/>
              <a:ext cx="9360" cy="1681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857160" y="4071960"/>
              <a:ext cx="972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866880" y="3973320"/>
              <a:ext cx="39600" cy="982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906480" y="3973680"/>
              <a:ext cx="9360" cy="18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915840" y="3992400"/>
              <a:ext cx="11160" cy="889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927000" y="3963960"/>
              <a:ext cx="19080" cy="117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946080" y="3963960"/>
              <a:ext cx="972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955800" y="3963960"/>
              <a:ext cx="2988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985680" y="3924360"/>
              <a:ext cx="1908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004760" y="3924360"/>
              <a:ext cx="11160" cy="792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015920" y="4003560"/>
              <a:ext cx="972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025640" y="4013280"/>
              <a:ext cx="9360" cy="680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035000" y="4081320"/>
              <a:ext cx="3960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074600" y="4081320"/>
              <a:ext cx="9720" cy="986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084320" y="4179960"/>
              <a:ext cx="9360" cy="698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1093680" y="4219560"/>
              <a:ext cx="972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103400" y="4219560"/>
              <a:ext cx="20520" cy="147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123920" y="4367160"/>
              <a:ext cx="30240" cy="889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V="1">
              <a:off x="1154160" y="4397040"/>
              <a:ext cx="19080" cy="586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V="1">
              <a:off x="1173240" y="4387320"/>
              <a:ext cx="936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182600" y="4387680"/>
              <a:ext cx="9720" cy="986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1192320" y="4416480"/>
              <a:ext cx="11160" cy="698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1203480" y="4387680"/>
              <a:ext cx="37800" cy="28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241280" y="4387680"/>
              <a:ext cx="11160" cy="590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252440" y="4446720"/>
              <a:ext cx="972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262160" y="4467240"/>
              <a:ext cx="9360" cy="28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271520" y="4495680"/>
              <a:ext cx="20880" cy="399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V="1">
              <a:off x="1292400" y="4505400"/>
              <a:ext cx="2844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320840" y="4505400"/>
              <a:ext cx="9360" cy="489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330200" y="4554360"/>
              <a:ext cx="20880" cy="511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351080" y="4605480"/>
              <a:ext cx="93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1360440" y="4516200"/>
              <a:ext cx="9720" cy="982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370160" y="4516560"/>
              <a:ext cx="3960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1409760" y="4427280"/>
              <a:ext cx="9360" cy="889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419120" y="4427640"/>
              <a:ext cx="11160" cy="28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430280" y="4456080"/>
              <a:ext cx="972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V="1">
              <a:off x="1440000" y="4446360"/>
              <a:ext cx="19080" cy="586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459080" y="4446720"/>
              <a:ext cx="29880" cy="982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V="1">
              <a:off x="1488960" y="4505400"/>
              <a:ext cx="972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498680" y="4505400"/>
              <a:ext cx="19080" cy="698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1517760" y="4525560"/>
              <a:ext cx="1116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528920" y="4525920"/>
              <a:ext cx="936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538280" y="4525920"/>
              <a:ext cx="39600" cy="28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577880" y="4554360"/>
              <a:ext cx="9720" cy="795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1587600" y="4594320"/>
              <a:ext cx="936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596960" y="4594320"/>
              <a:ext cx="9720" cy="601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1606680" y="4614840"/>
              <a:ext cx="2052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627200" y="4614840"/>
              <a:ext cx="28440" cy="1080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655640" y="4722840"/>
              <a:ext cx="1116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1666800" y="4732200"/>
              <a:ext cx="19080" cy="20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V="1">
              <a:off x="1685880" y="4565160"/>
              <a:ext cx="9720" cy="1666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V="1">
              <a:off x="1695600" y="4544640"/>
              <a:ext cx="936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1704960" y="4367160"/>
              <a:ext cx="39600" cy="1778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V="1">
              <a:off x="1744560" y="4329000"/>
              <a:ext cx="11160" cy="38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V="1">
              <a:off x="1755720" y="4289400"/>
              <a:ext cx="972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1765440" y="4268520"/>
              <a:ext cx="936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V="1">
              <a:off x="1774800" y="4130640"/>
              <a:ext cx="19080" cy="138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793880" y="4130640"/>
              <a:ext cx="30240" cy="1872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1824120" y="4278240"/>
              <a:ext cx="936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33480" y="4278240"/>
              <a:ext cx="2088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854360" y="4308480"/>
              <a:ext cx="936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863720" y="4329000"/>
              <a:ext cx="9360" cy="28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873080" y="4357800"/>
              <a:ext cx="39960" cy="982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V="1">
              <a:off x="1913040" y="4406400"/>
              <a:ext cx="936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V="1">
              <a:off x="1922400" y="4277880"/>
              <a:ext cx="9720" cy="128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932120" y="4278240"/>
              <a:ext cx="11160" cy="20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1943280" y="4278240"/>
              <a:ext cx="9360" cy="20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1952640" y="4268880"/>
              <a:ext cx="3960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992240" y="4268880"/>
              <a:ext cx="972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001960" y="4268880"/>
              <a:ext cx="19080" cy="601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V="1">
              <a:off x="2021040" y="4317480"/>
              <a:ext cx="10800" cy="11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031840" y="4317840"/>
              <a:ext cx="9720" cy="11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V="1">
              <a:off x="2041560" y="4228920"/>
              <a:ext cx="39600" cy="9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2081160" y="4200480"/>
              <a:ext cx="9720" cy="28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090880" y="4200480"/>
              <a:ext cx="9360" cy="889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2100240" y="4239720"/>
              <a:ext cx="972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109960" y="4240080"/>
              <a:ext cx="936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119320" y="4240080"/>
              <a:ext cx="3960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V="1">
              <a:off x="2158920" y="4151160"/>
              <a:ext cx="11160" cy="986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V="1">
              <a:off x="2170080" y="4130280"/>
              <a:ext cx="972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179800" y="4130640"/>
              <a:ext cx="1872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198520" y="4179960"/>
              <a:ext cx="9720" cy="792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V="1">
              <a:off x="2208240" y="4160520"/>
              <a:ext cx="39600" cy="982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V="1">
              <a:off x="2247840" y="4141440"/>
              <a:ext cx="972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2257560" y="2760840"/>
            <a:ext cx="3344760" cy="1409400"/>
            <a:chOff x="2257560" y="2760840"/>
            <a:chExt cx="3344760" cy="1409400"/>
          </a:xfrm>
        </p:grpSpPr>
        <p:sp>
          <p:nvSpPr>
            <p:cNvPr id="2083" name=""/>
            <p:cNvSpPr/>
            <p:nvPr/>
          </p:nvSpPr>
          <p:spPr>
            <a:xfrm>
              <a:off x="2257560" y="4141800"/>
              <a:ext cx="1080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268360" y="4151160"/>
              <a:ext cx="972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V="1">
              <a:off x="2278080" y="4091040"/>
              <a:ext cx="9360" cy="792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287440" y="4091040"/>
              <a:ext cx="3996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V="1">
              <a:off x="2327400" y="4080960"/>
              <a:ext cx="9360" cy="399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336760" y="4081320"/>
              <a:ext cx="9720" cy="20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346480" y="4102200"/>
              <a:ext cx="2052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2367000" y="4071960"/>
              <a:ext cx="9360" cy="698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2376360" y="4003560"/>
              <a:ext cx="30240" cy="684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406600" y="4003560"/>
              <a:ext cx="19080" cy="28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425680" y="4032360"/>
              <a:ext cx="972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2435400" y="4003200"/>
              <a:ext cx="936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444760" y="4003560"/>
              <a:ext cx="11160" cy="28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455920" y="4032360"/>
              <a:ext cx="39600" cy="109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495520" y="4141800"/>
              <a:ext cx="972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V="1">
              <a:off x="2505240" y="4130280"/>
              <a:ext cx="9360" cy="11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2514600" y="4080960"/>
              <a:ext cx="1908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V="1">
              <a:off x="2533680" y="4071960"/>
              <a:ext cx="111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544840" y="4071960"/>
              <a:ext cx="2844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2573280" y="3963960"/>
              <a:ext cx="20520" cy="1080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2593800" y="3952440"/>
              <a:ext cx="9720" cy="11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603520" y="3952800"/>
              <a:ext cx="9360" cy="604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2612880" y="3924000"/>
              <a:ext cx="9720" cy="889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2622600" y="3894120"/>
              <a:ext cx="3960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2662200" y="3874680"/>
              <a:ext cx="972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V="1">
              <a:off x="2671920" y="3805200"/>
              <a:ext cx="10800" cy="698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682720" y="3805200"/>
              <a:ext cx="1908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2701800" y="3785760"/>
              <a:ext cx="972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711520" y="3786120"/>
              <a:ext cx="3024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V="1">
              <a:off x="2741760" y="3795840"/>
              <a:ext cx="1908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V="1">
              <a:off x="2760840" y="3715920"/>
              <a:ext cx="10800" cy="795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V="1">
              <a:off x="2771640" y="3706920"/>
              <a:ext cx="972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781360" y="3706920"/>
              <a:ext cx="9360" cy="489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V="1">
              <a:off x="2790720" y="3627000"/>
              <a:ext cx="39960" cy="128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830680" y="3627360"/>
              <a:ext cx="936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840040" y="3627360"/>
              <a:ext cx="9360" cy="20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849400" y="3648240"/>
              <a:ext cx="20880" cy="680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2870280" y="3696840"/>
              <a:ext cx="936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879640" y="3697200"/>
              <a:ext cx="28800" cy="889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2908440" y="3755880"/>
              <a:ext cx="2052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928960" y="3755880"/>
              <a:ext cx="9360" cy="590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V="1">
              <a:off x="2938320" y="3776760"/>
              <a:ext cx="9720" cy="38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948040" y="3776760"/>
              <a:ext cx="11160" cy="586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959200" y="3835440"/>
              <a:ext cx="3816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V="1">
              <a:off x="2997360" y="3805200"/>
              <a:ext cx="1080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V="1">
              <a:off x="3008160" y="3736800"/>
              <a:ext cx="9720" cy="684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017880" y="3736800"/>
              <a:ext cx="936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027240" y="3786120"/>
              <a:ext cx="1908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3046320" y="3687480"/>
              <a:ext cx="30240" cy="982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076560" y="3687840"/>
              <a:ext cx="2052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097080" y="3687840"/>
              <a:ext cx="972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106800" y="3727440"/>
              <a:ext cx="9360" cy="777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V="1">
              <a:off x="3116160" y="3755520"/>
              <a:ext cx="972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3125880" y="3716280"/>
              <a:ext cx="3960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165480" y="3716280"/>
              <a:ext cx="936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174840" y="3746520"/>
              <a:ext cx="972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184560" y="3765600"/>
              <a:ext cx="1116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V="1">
              <a:off x="3195720" y="3706560"/>
              <a:ext cx="19080" cy="889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214800" y="3706920"/>
              <a:ext cx="29880" cy="586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V="1">
              <a:off x="3244680" y="3727440"/>
              <a:ext cx="9720" cy="38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V="1">
              <a:off x="3254400" y="3706560"/>
              <a:ext cx="1908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273480" y="3706920"/>
              <a:ext cx="11160" cy="489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V="1">
              <a:off x="3284640" y="3647880"/>
              <a:ext cx="9360" cy="1076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294000" y="3648240"/>
              <a:ext cx="3960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333600" y="3657600"/>
              <a:ext cx="972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343320" y="3697200"/>
              <a:ext cx="936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V="1">
              <a:off x="3352680" y="3676320"/>
              <a:ext cx="972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362400" y="3676680"/>
              <a:ext cx="20520" cy="507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V="1">
              <a:off x="3382920" y="3706560"/>
              <a:ext cx="2844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411360" y="3706920"/>
              <a:ext cx="11160" cy="982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V="1">
              <a:off x="3422520" y="3785760"/>
              <a:ext cx="1908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V="1">
              <a:off x="3441600" y="3746520"/>
              <a:ext cx="972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3451320" y="3706920"/>
              <a:ext cx="936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3460680" y="3687480"/>
              <a:ext cx="3960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3500280" y="3627360"/>
              <a:ext cx="9720" cy="604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510000" y="3627360"/>
              <a:ext cx="1116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3521160" y="3627360"/>
              <a:ext cx="936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530520" y="3627360"/>
              <a:ext cx="1908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3549600" y="3568320"/>
              <a:ext cx="30240" cy="586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3579840" y="3559320"/>
              <a:ext cx="93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589200" y="3559320"/>
              <a:ext cx="2088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3610080" y="3558960"/>
              <a:ext cx="936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619440" y="3559320"/>
              <a:ext cx="9720" cy="489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629160" y="3608280"/>
              <a:ext cx="3960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3668760" y="3618000"/>
              <a:ext cx="93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78120" y="3618000"/>
              <a:ext cx="972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3687840" y="3589200"/>
              <a:ext cx="11160" cy="28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V="1">
              <a:off x="3699000" y="3568320"/>
              <a:ext cx="1908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718080" y="3568680"/>
              <a:ext cx="2988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3747960" y="3500280"/>
              <a:ext cx="9720" cy="684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3757680" y="3470040"/>
              <a:ext cx="19080" cy="29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3776760" y="3460320"/>
              <a:ext cx="936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786120" y="3460680"/>
              <a:ext cx="1116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3797280" y="3460320"/>
              <a:ext cx="3960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836880" y="3460680"/>
              <a:ext cx="972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846600" y="3510000"/>
              <a:ext cx="936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V="1">
              <a:off x="3855960" y="3538440"/>
              <a:ext cx="9720" cy="20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3865680" y="3529080"/>
              <a:ext cx="93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875040" y="3529080"/>
              <a:ext cx="3960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V="1">
              <a:off x="3914640" y="3470400"/>
              <a:ext cx="9720" cy="792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924360" y="3470400"/>
              <a:ext cx="2052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3944880" y="3411000"/>
              <a:ext cx="9720" cy="781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954600" y="3411360"/>
              <a:ext cx="936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963960" y="3421080"/>
              <a:ext cx="39600" cy="684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V="1">
              <a:off x="4003560" y="3470040"/>
              <a:ext cx="972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13280" y="3470400"/>
              <a:ext cx="11160" cy="889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024440" y="3559320"/>
              <a:ext cx="9360" cy="489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033800" y="3608280"/>
              <a:ext cx="972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V="1">
              <a:off x="4043520" y="3589200"/>
              <a:ext cx="39600" cy="38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083120" y="3589200"/>
              <a:ext cx="9360" cy="684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V="1">
              <a:off x="4092480" y="3528720"/>
              <a:ext cx="9720" cy="128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V="1">
              <a:off x="4102200" y="3519000"/>
              <a:ext cx="2052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4122720" y="3470400"/>
              <a:ext cx="9720" cy="489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V="1">
              <a:off x="4132440" y="3450960"/>
              <a:ext cx="3960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4172040" y="3421080"/>
              <a:ext cx="936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181400" y="3421080"/>
              <a:ext cx="972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V="1">
              <a:off x="4191120" y="3400200"/>
              <a:ext cx="9360" cy="29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200480" y="3400560"/>
              <a:ext cx="1116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V="1">
              <a:off x="4211640" y="3350880"/>
              <a:ext cx="3816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4249800" y="3322440"/>
              <a:ext cx="11160" cy="28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260960" y="3322800"/>
              <a:ext cx="936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270320" y="3322800"/>
              <a:ext cx="1908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289400" y="3332160"/>
              <a:ext cx="1116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4300560" y="3341520"/>
              <a:ext cx="2844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329000" y="3341520"/>
              <a:ext cx="20880" cy="20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349880" y="3362400"/>
              <a:ext cx="9360" cy="889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V="1">
              <a:off x="4359240" y="3439800"/>
              <a:ext cx="9720" cy="11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368960" y="3440160"/>
              <a:ext cx="936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4378320" y="3451320"/>
              <a:ext cx="3960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4417920" y="3362040"/>
              <a:ext cx="9720" cy="889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V="1">
              <a:off x="4427640" y="3341520"/>
              <a:ext cx="11160" cy="20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4438800" y="3332160"/>
              <a:ext cx="1908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4457880" y="3322800"/>
              <a:ext cx="93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V="1">
              <a:off x="4467240" y="3292560"/>
              <a:ext cx="3024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497480" y="3292560"/>
              <a:ext cx="1908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516560" y="3301920"/>
              <a:ext cx="9360" cy="11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4525920" y="3292200"/>
              <a:ext cx="1116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537080" y="3292560"/>
              <a:ext cx="936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546440" y="3322800"/>
              <a:ext cx="39960" cy="28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586400" y="3351240"/>
              <a:ext cx="9360" cy="11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4595760" y="3292560"/>
              <a:ext cx="9720" cy="698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605480" y="3292560"/>
              <a:ext cx="2052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626000" y="3301920"/>
              <a:ext cx="936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635360" y="3341520"/>
              <a:ext cx="28800" cy="399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664160" y="3381480"/>
              <a:ext cx="20520" cy="586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4684680" y="3390480"/>
              <a:ext cx="972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694400" y="3390840"/>
              <a:ext cx="936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4703760" y="3430080"/>
              <a:ext cx="1116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4714920" y="3362040"/>
              <a:ext cx="38160" cy="680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4753080" y="3350880"/>
              <a:ext cx="11160" cy="11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4764240" y="3341160"/>
              <a:ext cx="936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773600" y="3341520"/>
              <a:ext cx="1908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792680" y="3332160"/>
              <a:ext cx="93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4802040" y="3262320"/>
              <a:ext cx="30240" cy="698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832280" y="3262320"/>
              <a:ext cx="1908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4851360" y="3282480"/>
              <a:ext cx="1116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V="1">
              <a:off x="4862520" y="3243240"/>
              <a:ext cx="936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871880" y="3243240"/>
              <a:ext cx="972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4881600" y="3223800"/>
              <a:ext cx="39600" cy="586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921200" y="3224160"/>
              <a:ext cx="972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930920" y="3243240"/>
              <a:ext cx="936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4940280" y="3193920"/>
              <a:ext cx="11160" cy="590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4951440" y="3174480"/>
              <a:ext cx="1908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970520" y="3174840"/>
              <a:ext cx="3024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5000760" y="3114720"/>
              <a:ext cx="19080" cy="698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5019840" y="3104640"/>
              <a:ext cx="936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V="1">
              <a:off x="5029200" y="3045960"/>
              <a:ext cx="11160" cy="586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5040360" y="3025440"/>
              <a:ext cx="936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5049720" y="2986200"/>
              <a:ext cx="3996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089680" y="2986200"/>
              <a:ext cx="936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099040" y="2986200"/>
              <a:ext cx="936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108400" y="3006720"/>
              <a:ext cx="972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5118120" y="2997360"/>
              <a:ext cx="2052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5138640" y="2917440"/>
              <a:ext cx="28800" cy="795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167440" y="2917800"/>
              <a:ext cx="1116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5178600" y="2917440"/>
              <a:ext cx="1872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197320" y="2917800"/>
              <a:ext cx="972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207040" y="2917800"/>
              <a:ext cx="936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V="1">
              <a:off x="5216400" y="2858760"/>
              <a:ext cx="39960" cy="889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256360" y="2859120"/>
              <a:ext cx="936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265720" y="2859120"/>
              <a:ext cx="111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5276880" y="2828880"/>
              <a:ext cx="936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286240" y="2828880"/>
              <a:ext cx="19080" cy="795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V="1">
              <a:off x="5305320" y="2898360"/>
              <a:ext cx="3024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335560" y="2898720"/>
              <a:ext cx="9720" cy="28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5345280" y="2859120"/>
              <a:ext cx="20520" cy="684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5365800" y="2847600"/>
              <a:ext cx="9360" cy="11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V="1">
              <a:off x="5375160" y="2819160"/>
              <a:ext cx="9720" cy="28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384880" y="2819520"/>
              <a:ext cx="3960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424480" y="2819520"/>
              <a:ext cx="9360" cy="489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V="1">
              <a:off x="5433840" y="2809440"/>
              <a:ext cx="9720" cy="586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443560" y="2809800"/>
              <a:ext cx="936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452920" y="2809800"/>
              <a:ext cx="20880" cy="38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V="1">
              <a:off x="5473800" y="2760840"/>
              <a:ext cx="30240" cy="871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504040" y="2760840"/>
              <a:ext cx="9360" cy="586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513400" y="2819520"/>
              <a:ext cx="19080" cy="889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V="1">
              <a:off x="5532480" y="2878200"/>
              <a:ext cx="936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541840" y="2878200"/>
              <a:ext cx="1116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5553000" y="2887200"/>
              <a:ext cx="38160" cy="11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591160" y="2887560"/>
              <a:ext cx="1116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3" name=""/>
          <p:cNvGrpSpPr/>
          <p:nvPr/>
        </p:nvGrpSpPr>
        <p:grpSpPr>
          <a:xfrm>
            <a:off x="838080" y="2739600"/>
            <a:ext cx="7446960" cy="1657800"/>
            <a:chOff x="838080" y="2739600"/>
            <a:chExt cx="7446960" cy="1657800"/>
          </a:xfrm>
        </p:grpSpPr>
        <p:sp>
          <p:nvSpPr>
            <p:cNvPr id="2284" name=""/>
            <p:cNvSpPr/>
            <p:nvPr/>
          </p:nvSpPr>
          <p:spPr>
            <a:xfrm>
              <a:off x="5602320" y="2887560"/>
              <a:ext cx="9360" cy="20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V="1">
              <a:off x="5611680" y="2887560"/>
              <a:ext cx="9720" cy="20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5621400" y="2828520"/>
              <a:ext cx="20520" cy="586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641920" y="2828880"/>
              <a:ext cx="2880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V="1">
              <a:off x="5670720" y="2819160"/>
              <a:ext cx="936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5680080" y="2739600"/>
              <a:ext cx="20520" cy="795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700600" y="2739960"/>
              <a:ext cx="972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710320" y="2770200"/>
              <a:ext cx="936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719680" y="2809800"/>
              <a:ext cx="3960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V="1">
              <a:off x="5759280" y="2749320"/>
              <a:ext cx="9720" cy="601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769000" y="2749680"/>
              <a:ext cx="11160" cy="29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780160" y="2779560"/>
              <a:ext cx="936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789520" y="2779560"/>
              <a:ext cx="972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99240" y="2809800"/>
              <a:ext cx="3960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838840" y="2819520"/>
              <a:ext cx="9360" cy="28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5848200" y="2819160"/>
              <a:ext cx="19080" cy="28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867280" y="2819520"/>
              <a:ext cx="1116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878440" y="2838600"/>
              <a:ext cx="972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5888160" y="2779560"/>
              <a:ext cx="39600" cy="590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927760" y="2779560"/>
              <a:ext cx="936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937120" y="2828880"/>
              <a:ext cx="972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946840" y="2828880"/>
              <a:ext cx="936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956200" y="2828880"/>
              <a:ext cx="1116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967360" y="2828880"/>
              <a:ext cx="3816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005520" y="2868480"/>
              <a:ext cx="1116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016680" y="2917800"/>
              <a:ext cx="9360" cy="982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26040" y="3016080"/>
              <a:ext cx="19080" cy="986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V="1">
              <a:off x="6045120" y="3046320"/>
              <a:ext cx="9720" cy="684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054840" y="3046320"/>
              <a:ext cx="39600" cy="889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V="1">
              <a:off x="6094440" y="3086280"/>
              <a:ext cx="11160" cy="489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V="1">
              <a:off x="6105600" y="3015720"/>
              <a:ext cx="9360" cy="702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114960" y="3016080"/>
              <a:ext cx="972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124680" y="3016080"/>
              <a:ext cx="9360" cy="702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134040" y="3086280"/>
              <a:ext cx="39600" cy="777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173640" y="3164040"/>
              <a:ext cx="972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183360" y="3164040"/>
              <a:ext cx="9360" cy="10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V="1">
              <a:off x="6192720" y="3065400"/>
              <a:ext cx="20880" cy="109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13600" y="3065400"/>
              <a:ext cx="936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6222960" y="2997000"/>
              <a:ext cx="30240" cy="680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6253200" y="2957040"/>
              <a:ext cx="19080" cy="399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272280" y="2957400"/>
              <a:ext cx="936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V="1">
              <a:off x="6281640" y="2967120"/>
              <a:ext cx="111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V="1">
              <a:off x="6292800" y="2908080"/>
              <a:ext cx="9720" cy="586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6302520" y="2847960"/>
              <a:ext cx="39600" cy="604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V="1">
              <a:off x="6342120" y="2838600"/>
              <a:ext cx="93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351480" y="2838600"/>
              <a:ext cx="9720" cy="601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361200" y="2898720"/>
              <a:ext cx="20520" cy="28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81720" y="2927520"/>
              <a:ext cx="972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V="1">
              <a:off x="6391440" y="2877840"/>
              <a:ext cx="2844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419880" y="2878200"/>
              <a:ext cx="20520" cy="792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440400" y="2957400"/>
              <a:ext cx="972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V="1">
              <a:off x="6450120" y="2947680"/>
              <a:ext cx="936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V="1">
              <a:off x="6459480" y="2917800"/>
              <a:ext cx="972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469200" y="2917800"/>
              <a:ext cx="3960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508800" y="2927520"/>
              <a:ext cx="11160" cy="792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V="1">
              <a:off x="6519960" y="2997360"/>
              <a:ext cx="93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6529320" y="2908080"/>
              <a:ext cx="19080" cy="889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548400" y="2908440"/>
              <a:ext cx="972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558120" y="2908440"/>
              <a:ext cx="2988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V="1">
              <a:off x="6588000" y="2898360"/>
              <a:ext cx="1908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607080" y="2898720"/>
              <a:ext cx="11160" cy="874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618240" y="2986200"/>
              <a:ext cx="972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627960" y="3025800"/>
              <a:ext cx="936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6637320" y="3006360"/>
              <a:ext cx="3960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V="1">
              <a:off x="6676920" y="2997360"/>
              <a:ext cx="972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686640" y="2997360"/>
              <a:ext cx="93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696000" y="3006720"/>
              <a:ext cx="2088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716880" y="3046320"/>
              <a:ext cx="9360" cy="777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726240" y="3124080"/>
              <a:ext cx="30240" cy="795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V="1">
              <a:off x="6756480" y="3184200"/>
              <a:ext cx="1908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775560" y="3174480"/>
              <a:ext cx="936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784920" y="3174840"/>
              <a:ext cx="972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794640" y="3193920"/>
              <a:ext cx="1080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805440" y="3193920"/>
              <a:ext cx="39960" cy="684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6845400" y="3224160"/>
              <a:ext cx="9360" cy="38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854760" y="3224160"/>
              <a:ext cx="972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864480" y="3243240"/>
              <a:ext cx="936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V="1">
              <a:off x="6873840" y="3223800"/>
              <a:ext cx="2052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894360" y="3224160"/>
              <a:ext cx="2880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V="1">
              <a:off x="6923160" y="3124080"/>
              <a:ext cx="20520" cy="100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943680" y="3124080"/>
              <a:ext cx="9720" cy="11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V="1">
              <a:off x="6953400" y="3074760"/>
              <a:ext cx="9360" cy="601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962760" y="3075120"/>
              <a:ext cx="9720" cy="11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972480" y="3086280"/>
              <a:ext cx="3960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V="1">
              <a:off x="7012080" y="3074760"/>
              <a:ext cx="9360" cy="11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7021440" y="3036960"/>
              <a:ext cx="11160" cy="38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032600" y="3036960"/>
              <a:ext cx="9720" cy="38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V="1">
              <a:off x="7042320" y="3046320"/>
              <a:ext cx="18720" cy="28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7061040" y="2957040"/>
              <a:ext cx="30240" cy="889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V="1">
              <a:off x="7091280" y="2927160"/>
              <a:ext cx="9720" cy="29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101000" y="2927520"/>
              <a:ext cx="2052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V="1">
              <a:off x="7121520" y="2947680"/>
              <a:ext cx="936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130880" y="2948040"/>
              <a:ext cx="972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140600" y="2948040"/>
              <a:ext cx="39600" cy="381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V="1">
              <a:off x="7180200" y="2957400"/>
              <a:ext cx="9720" cy="28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189920" y="2957400"/>
              <a:ext cx="936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199280" y="2967120"/>
              <a:ext cx="972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V="1">
              <a:off x="7209000" y="2936880"/>
              <a:ext cx="2052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7229520" y="2936880"/>
              <a:ext cx="3024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V="1">
              <a:off x="7259760" y="2957040"/>
              <a:ext cx="9360" cy="97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7269120" y="2898360"/>
              <a:ext cx="19080" cy="586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288200" y="2898720"/>
              <a:ext cx="936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297560" y="2917800"/>
              <a:ext cx="1116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308720" y="2967120"/>
              <a:ext cx="381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7346880" y="2936880"/>
              <a:ext cx="1116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7358040" y="2927520"/>
              <a:ext cx="972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367760" y="2927520"/>
              <a:ext cx="9360" cy="586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377120" y="2986200"/>
              <a:ext cx="1908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396200" y="3025800"/>
              <a:ext cx="3024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426440" y="3025800"/>
              <a:ext cx="936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V="1">
              <a:off x="7435800" y="3045960"/>
              <a:ext cx="2052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456320" y="3046320"/>
              <a:ext cx="9720" cy="493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V="1">
              <a:off x="7466040" y="3065400"/>
              <a:ext cx="936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7475400" y="3045960"/>
              <a:ext cx="3996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7515360" y="3046320"/>
              <a:ext cx="936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524720" y="3046320"/>
              <a:ext cx="972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534440" y="3065400"/>
              <a:ext cx="1080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545240" y="3095640"/>
              <a:ext cx="1908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564320" y="3114720"/>
              <a:ext cx="30240" cy="302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V="1">
              <a:off x="7594560" y="3104640"/>
              <a:ext cx="9720" cy="399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604280" y="3105000"/>
              <a:ext cx="18720" cy="698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7623000" y="3164040"/>
              <a:ext cx="11160" cy="10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634160" y="3164040"/>
              <a:ext cx="9720" cy="601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643880" y="3224160"/>
              <a:ext cx="3960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V="1">
              <a:off x="7683480" y="3144960"/>
              <a:ext cx="9720" cy="792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7693200" y="3124080"/>
              <a:ext cx="9360" cy="20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V="1">
              <a:off x="7702560" y="3114720"/>
              <a:ext cx="93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711920" y="3114720"/>
              <a:ext cx="1116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7723080" y="3085920"/>
              <a:ext cx="38160" cy="28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761240" y="3086280"/>
              <a:ext cx="11160" cy="37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772400" y="3124080"/>
              <a:ext cx="1908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791480" y="3124080"/>
              <a:ext cx="9360" cy="100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800840" y="3224160"/>
              <a:ext cx="9720" cy="889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810560" y="3313080"/>
              <a:ext cx="3960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V="1">
              <a:off x="7850160" y="3233880"/>
              <a:ext cx="11160" cy="792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861320" y="3233880"/>
              <a:ext cx="93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870680" y="3243240"/>
              <a:ext cx="9720" cy="698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880400" y="3313080"/>
              <a:ext cx="9360" cy="18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V="1">
              <a:off x="7889760" y="3233880"/>
              <a:ext cx="39960" cy="792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V="1">
              <a:off x="7929720" y="3213000"/>
              <a:ext cx="9360" cy="20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7939080" y="3144600"/>
              <a:ext cx="9360" cy="680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948440" y="3144960"/>
              <a:ext cx="20880" cy="29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flipV="1">
              <a:off x="7969320" y="3135240"/>
              <a:ext cx="9360" cy="3960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7978680" y="3135240"/>
              <a:ext cx="3996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V="1">
              <a:off x="8018640" y="3134880"/>
              <a:ext cx="9360" cy="190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V="1">
              <a:off x="8028000" y="3086280"/>
              <a:ext cx="9360" cy="489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8037360" y="3086280"/>
              <a:ext cx="111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V="1">
              <a:off x="8048520" y="3074760"/>
              <a:ext cx="972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058240" y="3075120"/>
              <a:ext cx="39600" cy="489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V="1">
              <a:off x="8097840" y="3095280"/>
              <a:ext cx="9360" cy="28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107200" y="3095640"/>
              <a:ext cx="972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V="1">
              <a:off x="8116920" y="3015720"/>
              <a:ext cx="19080" cy="795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136000" y="3016080"/>
              <a:ext cx="11160" cy="208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147160" y="3036960"/>
              <a:ext cx="2844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V="1">
              <a:off x="8175600" y="2985840"/>
              <a:ext cx="20520" cy="507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196120" y="2986200"/>
              <a:ext cx="9720" cy="2052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205840" y="3006720"/>
              <a:ext cx="93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V="1">
              <a:off x="8215200" y="3006720"/>
              <a:ext cx="972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8224920" y="3006720"/>
              <a:ext cx="39600" cy="144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V="1">
              <a:off x="8264520" y="2997360"/>
              <a:ext cx="9360" cy="936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273880" y="2997360"/>
              <a:ext cx="11160" cy="58680"/>
            </a:xfrm>
            <a:prstGeom prst="line">
              <a:avLst/>
            </a:prstGeom>
            <a:ln w="30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38080" y="4240080"/>
              <a:ext cx="97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47800" y="4240080"/>
              <a:ext cx="93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57160" y="4240080"/>
              <a:ext cx="97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866880" y="4160880"/>
              <a:ext cx="39600" cy="792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906480" y="4160880"/>
              <a:ext cx="9360" cy="30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915840" y="4191120"/>
              <a:ext cx="11160" cy="871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927000" y="4278240"/>
              <a:ext cx="19080" cy="11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946080" y="4289400"/>
              <a:ext cx="972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955800" y="4308480"/>
              <a:ext cx="29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985680" y="4258800"/>
              <a:ext cx="1908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V="1">
              <a:off x="1004760" y="4219560"/>
              <a:ext cx="1116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015920" y="4219560"/>
              <a:ext cx="97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1025640" y="4169880"/>
              <a:ext cx="936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035000" y="4170240"/>
              <a:ext cx="39600" cy="79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V="1">
              <a:off x="1074600" y="4160520"/>
              <a:ext cx="972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084320" y="4160880"/>
              <a:ext cx="936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1093680" y="4111560"/>
              <a:ext cx="9720" cy="108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103400" y="4111560"/>
              <a:ext cx="2052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123920" y="4151160"/>
              <a:ext cx="30240" cy="684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154160" y="4219560"/>
              <a:ext cx="1908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173240" y="4268880"/>
              <a:ext cx="9360" cy="118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182600" y="4387680"/>
              <a:ext cx="9720" cy="9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1192320" y="4387320"/>
              <a:ext cx="11160" cy="9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V="1">
              <a:off x="1203480" y="4289040"/>
              <a:ext cx="37800" cy="982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241280" y="4289400"/>
              <a:ext cx="11160" cy="9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1252440" y="4258800"/>
              <a:ext cx="9720" cy="39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262160" y="4259160"/>
              <a:ext cx="9360" cy="39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271520" y="4299120"/>
              <a:ext cx="20880" cy="18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V="1">
              <a:off x="1292400" y="4299120"/>
              <a:ext cx="28440" cy="18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320840" y="4299120"/>
              <a:ext cx="9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V="1">
              <a:off x="1330200" y="4191120"/>
              <a:ext cx="20880" cy="108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351080" y="4191120"/>
              <a:ext cx="9360" cy="38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1360440" y="4160880"/>
              <a:ext cx="9720" cy="684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V="1">
              <a:off x="1370160" y="4121280"/>
              <a:ext cx="3960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409760" y="4121280"/>
              <a:ext cx="9360" cy="48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419120" y="4170240"/>
              <a:ext cx="11160" cy="9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430280" y="4179960"/>
              <a:ext cx="9720" cy="20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440000" y="4200480"/>
              <a:ext cx="19080" cy="77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1459080" y="4249440"/>
              <a:ext cx="29880" cy="28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4" name=""/>
          <p:cNvGrpSpPr/>
          <p:nvPr/>
        </p:nvGrpSpPr>
        <p:grpSpPr>
          <a:xfrm>
            <a:off x="1488960" y="2660760"/>
            <a:ext cx="3343320" cy="2171520"/>
            <a:chOff x="1488960" y="2660760"/>
            <a:chExt cx="3343320" cy="2171520"/>
          </a:xfrm>
        </p:grpSpPr>
        <p:sp>
          <p:nvSpPr>
            <p:cNvPr id="2485" name=""/>
            <p:cNvSpPr/>
            <p:nvPr/>
          </p:nvSpPr>
          <p:spPr>
            <a:xfrm>
              <a:off x="1488960" y="4249800"/>
              <a:ext cx="9720" cy="117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498680" y="4367160"/>
              <a:ext cx="19080" cy="11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517760" y="4378320"/>
              <a:ext cx="111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V="1">
              <a:off x="1528920" y="4366800"/>
              <a:ext cx="9360" cy="11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V="1">
              <a:off x="1538280" y="4289400"/>
              <a:ext cx="39600" cy="77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577880" y="4289400"/>
              <a:ext cx="9720" cy="9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587600" y="4299120"/>
              <a:ext cx="9360" cy="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596960" y="4308480"/>
              <a:ext cx="972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606680" y="4367160"/>
              <a:ext cx="20520" cy="138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627200" y="4505400"/>
              <a:ext cx="28440" cy="601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655640" y="4565520"/>
              <a:ext cx="11160" cy="108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V="1">
              <a:off x="1666800" y="4624560"/>
              <a:ext cx="19080" cy="48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685880" y="4624560"/>
              <a:ext cx="9720" cy="48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V="1">
              <a:off x="1695600" y="4594320"/>
              <a:ext cx="9360" cy="792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704960" y="4594320"/>
              <a:ext cx="39600" cy="792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V="1">
              <a:off x="1744560" y="4624560"/>
              <a:ext cx="11160" cy="48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V="1">
              <a:off x="1755720" y="4565520"/>
              <a:ext cx="9720" cy="59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V="1">
              <a:off x="1765440" y="4476240"/>
              <a:ext cx="936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774800" y="4476600"/>
              <a:ext cx="190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V="1">
              <a:off x="1793880" y="4329000"/>
              <a:ext cx="30240" cy="147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824120" y="4329000"/>
              <a:ext cx="9360" cy="117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V="1">
              <a:off x="1833480" y="4378320"/>
              <a:ext cx="20880" cy="684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V="1">
              <a:off x="1854360" y="4366800"/>
              <a:ext cx="9360" cy="11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863720" y="4367160"/>
              <a:ext cx="936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873080" y="4416480"/>
              <a:ext cx="39960" cy="189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913040" y="4605480"/>
              <a:ext cx="9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V="1">
              <a:off x="1922400" y="4545000"/>
              <a:ext cx="9720" cy="60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932120" y="4545000"/>
              <a:ext cx="1116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V="1">
              <a:off x="1943280" y="4545000"/>
              <a:ext cx="936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 flipV="1">
              <a:off x="1952640" y="4437000"/>
              <a:ext cx="39600" cy="108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992240" y="4437000"/>
              <a:ext cx="9720" cy="79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001960" y="4516560"/>
              <a:ext cx="19080" cy="37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021040" y="4554360"/>
              <a:ext cx="10800" cy="511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031840" y="4605480"/>
              <a:ext cx="9720" cy="982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041560" y="4703760"/>
              <a:ext cx="3960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 flipV="1">
              <a:off x="2081160" y="4692240"/>
              <a:ext cx="9720" cy="50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V="1">
              <a:off x="2090880" y="4663800"/>
              <a:ext cx="9360" cy="28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100240" y="4664160"/>
              <a:ext cx="972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 flipV="1">
              <a:off x="2109960" y="4673520"/>
              <a:ext cx="9360" cy="30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V="1">
              <a:off x="2119320" y="4614480"/>
              <a:ext cx="3960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158920" y="4614840"/>
              <a:ext cx="11160" cy="108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170080" y="4722840"/>
              <a:ext cx="97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2179800" y="4683240"/>
              <a:ext cx="1872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198520" y="4683240"/>
              <a:ext cx="972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208240" y="4772160"/>
              <a:ext cx="3960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247840" y="4830840"/>
              <a:ext cx="97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V="1">
              <a:off x="2257560" y="4692600"/>
              <a:ext cx="10800" cy="138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V="1">
              <a:off x="2268360" y="4673160"/>
              <a:ext cx="972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V="1">
              <a:off x="2278080" y="4654080"/>
              <a:ext cx="936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287440" y="4654440"/>
              <a:ext cx="39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2327400" y="4545000"/>
              <a:ext cx="9360" cy="109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 flipV="1">
              <a:off x="2336760" y="4525560"/>
              <a:ext cx="972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346480" y="4525920"/>
              <a:ext cx="2052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V="1">
              <a:off x="2367000" y="4495320"/>
              <a:ext cx="9360" cy="79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V="1">
              <a:off x="2376360" y="4456080"/>
              <a:ext cx="3024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406600" y="4456080"/>
              <a:ext cx="19080" cy="20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2425680" y="4446360"/>
              <a:ext cx="9720" cy="298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435400" y="4446720"/>
              <a:ext cx="9360" cy="69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444760" y="4516560"/>
              <a:ext cx="11160" cy="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455920" y="4525920"/>
              <a:ext cx="3960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2495520" y="4554000"/>
              <a:ext cx="9720" cy="11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505240" y="4554360"/>
              <a:ext cx="9360" cy="30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2514600" y="4565160"/>
              <a:ext cx="1908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V="1">
              <a:off x="2533680" y="4476240"/>
              <a:ext cx="1116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V="1">
              <a:off x="2544840" y="4455720"/>
              <a:ext cx="28440" cy="20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2573280" y="4456080"/>
              <a:ext cx="20520" cy="60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V="1">
              <a:off x="2593800" y="4446720"/>
              <a:ext cx="9720" cy="69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2603520" y="4366800"/>
              <a:ext cx="9360" cy="79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2612880" y="4338360"/>
              <a:ext cx="9720" cy="28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V="1">
              <a:off x="2622600" y="4258800"/>
              <a:ext cx="39600" cy="79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V="1">
              <a:off x="2662200" y="4249800"/>
              <a:ext cx="9720" cy="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671920" y="4249800"/>
              <a:ext cx="1080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V="1">
              <a:off x="2682720" y="4190760"/>
              <a:ext cx="1908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V="1">
              <a:off x="2701800" y="4111200"/>
              <a:ext cx="9720" cy="79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2711520" y="4090680"/>
              <a:ext cx="30240" cy="20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2741760" y="4091040"/>
              <a:ext cx="19080" cy="20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2760840" y="4052520"/>
              <a:ext cx="1080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2771640" y="4032000"/>
              <a:ext cx="9720" cy="20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2781360" y="3992040"/>
              <a:ext cx="9360" cy="39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790720" y="3992400"/>
              <a:ext cx="3996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V="1">
              <a:off x="2830680" y="3963960"/>
              <a:ext cx="9360" cy="117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V="1">
              <a:off x="2840040" y="3924360"/>
              <a:ext cx="936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2849400" y="3914280"/>
              <a:ext cx="20880" cy="9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2870280" y="3914640"/>
              <a:ext cx="93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V="1">
              <a:off x="2879640" y="3903840"/>
              <a:ext cx="28800" cy="10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2908440" y="3903840"/>
              <a:ext cx="20520" cy="128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2928960" y="4022280"/>
              <a:ext cx="9360" cy="9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2938320" y="4022640"/>
              <a:ext cx="9720" cy="9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V="1">
              <a:off x="2948040" y="3924360"/>
              <a:ext cx="11160" cy="108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959200" y="3924360"/>
              <a:ext cx="38160" cy="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2997360" y="3814920"/>
              <a:ext cx="10800" cy="118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V="1">
              <a:off x="3008160" y="3617640"/>
              <a:ext cx="9720" cy="196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V="1">
              <a:off x="3017880" y="3598560"/>
              <a:ext cx="936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027240" y="3598920"/>
              <a:ext cx="1908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3046320" y="3499920"/>
              <a:ext cx="30240" cy="147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3076560" y="3430440"/>
              <a:ext cx="20520" cy="69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3097080" y="3381480"/>
              <a:ext cx="9720" cy="48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106800" y="3381480"/>
              <a:ext cx="936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116160" y="3400560"/>
              <a:ext cx="9720" cy="198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3125880" y="3519000"/>
              <a:ext cx="39600" cy="79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165480" y="3519360"/>
              <a:ext cx="9360" cy="9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174840" y="3529080"/>
              <a:ext cx="9720" cy="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3184560" y="3538440"/>
              <a:ext cx="11160" cy="138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V="1">
              <a:off x="3195720" y="3657240"/>
              <a:ext cx="1908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214800" y="3657600"/>
              <a:ext cx="29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244680" y="3657600"/>
              <a:ext cx="9720" cy="30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3254400" y="3607920"/>
              <a:ext cx="19080" cy="79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3273480" y="3578040"/>
              <a:ext cx="11160" cy="298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284640" y="3578400"/>
              <a:ext cx="9360" cy="10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V="1">
              <a:off x="3294000" y="3470400"/>
              <a:ext cx="39600" cy="118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333600" y="3470400"/>
              <a:ext cx="97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343320" y="3470400"/>
              <a:ext cx="9360" cy="128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352680" y="3598920"/>
              <a:ext cx="972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3362400" y="3608280"/>
              <a:ext cx="20520" cy="30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3382920" y="3608280"/>
              <a:ext cx="28440" cy="98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411360" y="3706920"/>
              <a:ext cx="1116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422520" y="3746520"/>
              <a:ext cx="1908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441600" y="3786120"/>
              <a:ext cx="972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3451320" y="3786120"/>
              <a:ext cx="936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V="1">
              <a:off x="3460680" y="3687480"/>
              <a:ext cx="39600" cy="982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V="1">
              <a:off x="3500280" y="3638160"/>
              <a:ext cx="972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3510000" y="3519000"/>
              <a:ext cx="11160" cy="119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V="1">
              <a:off x="3521160" y="3430080"/>
              <a:ext cx="936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530520" y="3430440"/>
              <a:ext cx="19080" cy="30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V="1">
              <a:off x="3549600" y="3351240"/>
              <a:ext cx="30240" cy="109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3579840" y="3261960"/>
              <a:ext cx="936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3589200" y="3193920"/>
              <a:ext cx="20880" cy="684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V="1">
              <a:off x="3610080" y="3154320"/>
              <a:ext cx="936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619440" y="3154320"/>
              <a:ext cx="972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629160" y="3203640"/>
              <a:ext cx="3960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V="1">
              <a:off x="3668760" y="3174840"/>
              <a:ext cx="9360" cy="28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678120" y="3174840"/>
              <a:ext cx="9720" cy="9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687840" y="3184560"/>
              <a:ext cx="1116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V="1">
              <a:off x="3699000" y="3164040"/>
              <a:ext cx="19080" cy="69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V="1">
              <a:off x="3718080" y="2966760"/>
              <a:ext cx="29880" cy="196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V="1">
              <a:off x="3747960" y="2957040"/>
              <a:ext cx="9720" cy="9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V="1">
              <a:off x="3757680" y="2936520"/>
              <a:ext cx="19080" cy="20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776760" y="2936880"/>
              <a:ext cx="936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786120" y="2976480"/>
              <a:ext cx="111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3797280" y="2957040"/>
              <a:ext cx="3960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V="1">
              <a:off x="3836880" y="2809800"/>
              <a:ext cx="9720" cy="147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846600" y="2809800"/>
              <a:ext cx="9360" cy="38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855960" y="2847960"/>
              <a:ext cx="9720" cy="189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V="1">
              <a:off x="3865680" y="2936880"/>
              <a:ext cx="9360" cy="100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875040" y="2936880"/>
              <a:ext cx="3960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 flipV="1">
              <a:off x="3914640" y="2828880"/>
              <a:ext cx="9720" cy="108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 flipV="1">
              <a:off x="3924360" y="2769840"/>
              <a:ext cx="2052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V="1">
              <a:off x="3944880" y="2739960"/>
              <a:ext cx="9720" cy="30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954600" y="2739960"/>
              <a:ext cx="936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963960" y="2798640"/>
              <a:ext cx="39600" cy="287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003560" y="3086280"/>
              <a:ext cx="97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 flipV="1">
              <a:off x="4013280" y="3065400"/>
              <a:ext cx="11160" cy="208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024440" y="3065400"/>
              <a:ext cx="9360" cy="119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033800" y="3184560"/>
              <a:ext cx="97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4043520" y="3184560"/>
              <a:ext cx="3960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4083120" y="3233880"/>
              <a:ext cx="9360" cy="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4092480" y="3153960"/>
              <a:ext cx="972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V="1">
              <a:off x="4102200" y="3016080"/>
              <a:ext cx="20520" cy="138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V="1">
              <a:off x="4122720" y="2936880"/>
              <a:ext cx="9720" cy="792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V="1">
              <a:off x="4132440" y="2917440"/>
              <a:ext cx="3960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V="1">
              <a:off x="4172040" y="2878200"/>
              <a:ext cx="936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4181400" y="2878200"/>
              <a:ext cx="9720" cy="1681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4191120" y="3046320"/>
              <a:ext cx="93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 flipV="1">
              <a:off x="4200480" y="2898720"/>
              <a:ext cx="11160" cy="147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211640" y="2898720"/>
              <a:ext cx="381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V="1">
              <a:off x="4249800" y="2789280"/>
              <a:ext cx="11160" cy="109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260960" y="2789280"/>
              <a:ext cx="936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V="1">
              <a:off x="4270320" y="2749680"/>
              <a:ext cx="19080" cy="792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4289400" y="2739600"/>
              <a:ext cx="11160" cy="9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flipV="1">
              <a:off x="4300560" y="2660760"/>
              <a:ext cx="28440" cy="792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329000" y="2660760"/>
              <a:ext cx="20880" cy="792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349880" y="2739960"/>
              <a:ext cx="936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359240" y="2828880"/>
              <a:ext cx="9720" cy="345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V="1">
              <a:off x="4368960" y="3164040"/>
              <a:ext cx="9360" cy="10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flipV="1">
              <a:off x="4378320" y="3095640"/>
              <a:ext cx="39600" cy="684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flipV="1">
              <a:off x="4417920" y="3036600"/>
              <a:ext cx="972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V="1">
              <a:off x="4427640" y="2927520"/>
              <a:ext cx="11160" cy="109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438800" y="2927520"/>
              <a:ext cx="19080" cy="20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457880" y="2948040"/>
              <a:ext cx="936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467240" y="3036960"/>
              <a:ext cx="3024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V="1">
              <a:off x="4497480" y="2859120"/>
              <a:ext cx="19080" cy="177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516560" y="2859120"/>
              <a:ext cx="9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525920" y="2859120"/>
              <a:ext cx="11160" cy="177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V="1">
              <a:off x="4537080" y="2985840"/>
              <a:ext cx="9360" cy="50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546440" y="2986200"/>
              <a:ext cx="39960" cy="792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586400" y="3065400"/>
              <a:ext cx="9360" cy="177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flipV="1">
              <a:off x="4595760" y="3233880"/>
              <a:ext cx="9720" cy="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4605480" y="3164040"/>
              <a:ext cx="20520" cy="69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626000" y="3164040"/>
              <a:ext cx="9360" cy="109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635360" y="3273480"/>
              <a:ext cx="28800" cy="226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4664160" y="3439800"/>
              <a:ext cx="20520" cy="601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684680" y="3440160"/>
              <a:ext cx="9720" cy="1681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V="1">
              <a:off x="4694400" y="3460680"/>
              <a:ext cx="9360" cy="147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703760" y="3460680"/>
              <a:ext cx="111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714920" y="3460680"/>
              <a:ext cx="381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V="1">
              <a:off x="4753080" y="3400200"/>
              <a:ext cx="11160" cy="601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V="1">
              <a:off x="4764240" y="3282480"/>
              <a:ext cx="9360" cy="117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 flipV="1">
              <a:off x="4773600" y="3273480"/>
              <a:ext cx="19080" cy="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792680" y="3273480"/>
              <a:ext cx="936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V="1">
              <a:off x="4802040" y="3123720"/>
              <a:ext cx="30240" cy="189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4832280" y="2058840"/>
            <a:ext cx="3343320" cy="1371600"/>
            <a:chOff x="4832280" y="2058840"/>
            <a:chExt cx="3343320" cy="1371600"/>
          </a:xfrm>
        </p:grpSpPr>
        <p:sp>
          <p:nvSpPr>
            <p:cNvPr id="2686" name=""/>
            <p:cNvSpPr/>
            <p:nvPr/>
          </p:nvSpPr>
          <p:spPr>
            <a:xfrm>
              <a:off x="4832280" y="3124080"/>
              <a:ext cx="190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851360" y="3124080"/>
              <a:ext cx="11160" cy="50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V="1">
              <a:off x="4862520" y="3114360"/>
              <a:ext cx="9360" cy="601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871880" y="3114720"/>
              <a:ext cx="9720" cy="30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881600" y="3144960"/>
              <a:ext cx="39600" cy="196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V="1">
              <a:off x="4921200" y="3301920"/>
              <a:ext cx="972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930920" y="3301920"/>
              <a:ext cx="9360" cy="128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V="1">
              <a:off x="4940280" y="3331800"/>
              <a:ext cx="11160" cy="982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V="1">
              <a:off x="4951440" y="3273120"/>
              <a:ext cx="1908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V="1">
              <a:off x="4970520" y="3074760"/>
              <a:ext cx="30240" cy="198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000760" y="3075120"/>
              <a:ext cx="19080" cy="128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019840" y="3203640"/>
              <a:ext cx="9360" cy="109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029200" y="3313080"/>
              <a:ext cx="111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5040360" y="3203640"/>
              <a:ext cx="9360" cy="109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V="1">
              <a:off x="5049720" y="3144600"/>
              <a:ext cx="3996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089680" y="3144960"/>
              <a:ext cx="9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099040" y="3144960"/>
              <a:ext cx="9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108400" y="3144960"/>
              <a:ext cx="9720" cy="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V="1">
              <a:off x="5118120" y="3114720"/>
              <a:ext cx="2052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V="1">
              <a:off x="5138640" y="3065040"/>
              <a:ext cx="2880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flipV="1">
              <a:off x="5167440" y="2957400"/>
              <a:ext cx="11160" cy="108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178600" y="2957400"/>
              <a:ext cx="187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197320" y="2957400"/>
              <a:ext cx="97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207040" y="2957400"/>
              <a:ext cx="93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V="1">
              <a:off x="5216400" y="2868120"/>
              <a:ext cx="3996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256360" y="2868480"/>
              <a:ext cx="9360" cy="9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265720" y="2878200"/>
              <a:ext cx="11160" cy="30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V="1">
              <a:off x="5276880" y="2858760"/>
              <a:ext cx="936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V="1">
              <a:off x="5286240" y="2789280"/>
              <a:ext cx="19080" cy="69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305320" y="2789280"/>
              <a:ext cx="3024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335560" y="2789280"/>
              <a:ext cx="9720" cy="69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5345280" y="2847600"/>
              <a:ext cx="20520" cy="11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365800" y="2847960"/>
              <a:ext cx="9360" cy="119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V="1">
              <a:off x="5375160" y="2847600"/>
              <a:ext cx="9720" cy="119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V="1">
              <a:off x="5384880" y="2739960"/>
              <a:ext cx="39600" cy="108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V="1">
              <a:off x="5424480" y="2700360"/>
              <a:ext cx="936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433840" y="2700360"/>
              <a:ext cx="9720" cy="60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443560" y="2760840"/>
              <a:ext cx="9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V="1">
              <a:off x="5452920" y="2720520"/>
              <a:ext cx="20880" cy="39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473800" y="2720880"/>
              <a:ext cx="3024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504040" y="2779560"/>
              <a:ext cx="9360" cy="30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513400" y="2809800"/>
              <a:ext cx="1908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532480" y="2859120"/>
              <a:ext cx="936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541840" y="2898720"/>
              <a:ext cx="111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553000" y="2898720"/>
              <a:ext cx="381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591160" y="2898720"/>
              <a:ext cx="11160" cy="87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602320" y="2986200"/>
              <a:ext cx="9360" cy="118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V="1">
              <a:off x="5611680" y="3095640"/>
              <a:ext cx="9720" cy="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621400" y="3095640"/>
              <a:ext cx="205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641920" y="3095640"/>
              <a:ext cx="28800" cy="28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670720" y="3124080"/>
              <a:ext cx="9360" cy="30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680080" y="3154320"/>
              <a:ext cx="20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 flipV="1">
              <a:off x="5700600" y="3095280"/>
              <a:ext cx="972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V="1">
              <a:off x="5710320" y="3036600"/>
              <a:ext cx="936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719680" y="3036960"/>
              <a:ext cx="3960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V="1">
              <a:off x="5759280" y="2947680"/>
              <a:ext cx="972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769000" y="2948040"/>
              <a:ext cx="11160" cy="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V="1">
              <a:off x="5780160" y="2917800"/>
              <a:ext cx="936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789520" y="2917800"/>
              <a:ext cx="972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V="1">
              <a:off x="5799240" y="2847600"/>
              <a:ext cx="3960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838840" y="2847960"/>
              <a:ext cx="9360" cy="128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848200" y="2976480"/>
              <a:ext cx="190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V="1">
              <a:off x="5867280" y="2877840"/>
              <a:ext cx="11160" cy="982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5878440" y="2739960"/>
              <a:ext cx="9720" cy="138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V="1">
              <a:off x="5888160" y="2601720"/>
              <a:ext cx="39600" cy="1378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V="1">
              <a:off x="5927760" y="2543040"/>
              <a:ext cx="9360" cy="59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937120" y="2543040"/>
              <a:ext cx="9720" cy="9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V="1">
              <a:off x="5946840" y="2522520"/>
              <a:ext cx="9360" cy="30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V="1">
              <a:off x="5956200" y="2435400"/>
              <a:ext cx="11160" cy="871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967360" y="2435400"/>
              <a:ext cx="38160" cy="18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V="1">
              <a:off x="6005520" y="2444760"/>
              <a:ext cx="11160" cy="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016680" y="2444760"/>
              <a:ext cx="936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026040" y="2503440"/>
              <a:ext cx="19080" cy="79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045120" y="2583000"/>
              <a:ext cx="9720" cy="77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 flipV="1">
              <a:off x="6054840" y="2572920"/>
              <a:ext cx="39600" cy="87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094440" y="2573280"/>
              <a:ext cx="11160" cy="38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6105600" y="2494080"/>
              <a:ext cx="9360" cy="117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 flipV="1">
              <a:off x="6114960" y="2473200"/>
              <a:ext cx="9720" cy="208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124680" y="2473200"/>
              <a:ext cx="9360" cy="39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134040" y="2513160"/>
              <a:ext cx="39600" cy="601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173640" y="2573280"/>
              <a:ext cx="972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V="1">
              <a:off x="6183360" y="2542680"/>
              <a:ext cx="936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 flipV="1">
              <a:off x="6192720" y="2444400"/>
              <a:ext cx="20880" cy="982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V="1">
              <a:off x="6213600" y="2297160"/>
              <a:ext cx="9360" cy="147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222960" y="2297160"/>
              <a:ext cx="30240" cy="28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253200" y="2325600"/>
              <a:ext cx="19080" cy="208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V="1">
              <a:off x="6272280" y="2325600"/>
              <a:ext cx="9360" cy="208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281640" y="2325600"/>
              <a:ext cx="11160" cy="208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V="1">
              <a:off x="6292800" y="2266560"/>
              <a:ext cx="9720" cy="79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 flipV="1">
              <a:off x="6302520" y="2177640"/>
              <a:ext cx="3960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V="1">
              <a:off x="6342120" y="2108160"/>
              <a:ext cx="9360" cy="69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351480" y="2108160"/>
              <a:ext cx="9720" cy="30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V="1">
              <a:off x="6361200" y="2098800"/>
              <a:ext cx="2052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381720" y="2098800"/>
              <a:ext cx="9720" cy="118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V="1">
              <a:off x="6391440" y="2128320"/>
              <a:ext cx="2844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 flipV="1">
              <a:off x="6419880" y="2079720"/>
              <a:ext cx="20520" cy="48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440400" y="2079720"/>
              <a:ext cx="972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450120" y="2098800"/>
              <a:ext cx="9360" cy="177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V="1">
              <a:off x="6459480" y="2257200"/>
              <a:ext cx="972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469200" y="2257560"/>
              <a:ext cx="3960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6508800" y="2187720"/>
              <a:ext cx="11160" cy="109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519960" y="2187720"/>
              <a:ext cx="9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V="1">
              <a:off x="6529320" y="2168280"/>
              <a:ext cx="1908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V="1">
              <a:off x="6548400" y="2079360"/>
              <a:ext cx="972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6558120" y="2058840"/>
              <a:ext cx="29880" cy="208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588000" y="2058840"/>
              <a:ext cx="19080" cy="69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607080" y="2128680"/>
              <a:ext cx="1116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618240" y="2147760"/>
              <a:ext cx="97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627960" y="2147760"/>
              <a:ext cx="9360" cy="1494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637320" y="2297160"/>
              <a:ext cx="3960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676920" y="2297160"/>
              <a:ext cx="97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686640" y="2297160"/>
              <a:ext cx="9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696000" y="2297160"/>
              <a:ext cx="20880" cy="117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716880" y="2414520"/>
              <a:ext cx="9360" cy="79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726240" y="2494080"/>
              <a:ext cx="30240" cy="344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V="1">
              <a:off x="6756480" y="2819160"/>
              <a:ext cx="1908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V="1">
              <a:off x="6775560" y="2671920"/>
              <a:ext cx="9360" cy="147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6784920" y="2671920"/>
              <a:ext cx="9720" cy="196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V="1">
              <a:off x="6794640" y="2859120"/>
              <a:ext cx="10800" cy="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805440" y="2859120"/>
              <a:ext cx="39960" cy="2062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 flipV="1">
              <a:off x="6845400" y="2936520"/>
              <a:ext cx="9360" cy="128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 flipV="1">
              <a:off x="6854760" y="2779200"/>
              <a:ext cx="9720" cy="157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864480" y="2779560"/>
              <a:ext cx="9360" cy="684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V="1">
              <a:off x="6873840" y="2720520"/>
              <a:ext cx="20520" cy="127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V="1">
              <a:off x="6894360" y="2700000"/>
              <a:ext cx="28800" cy="20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923160" y="2700360"/>
              <a:ext cx="2052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V="1">
              <a:off x="6943680" y="2671920"/>
              <a:ext cx="9720" cy="117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flipV="1">
              <a:off x="6953400" y="2660400"/>
              <a:ext cx="9360" cy="11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V="1">
              <a:off x="6962760" y="2572920"/>
              <a:ext cx="9720" cy="87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6972480" y="2573280"/>
              <a:ext cx="3960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V="1">
              <a:off x="7012080" y="2583000"/>
              <a:ext cx="936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021440" y="2583000"/>
              <a:ext cx="11160" cy="28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032600" y="2611440"/>
              <a:ext cx="9720" cy="138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V="1">
              <a:off x="7042320" y="2690640"/>
              <a:ext cx="18720" cy="59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 flipV="1">
              <a:off x="7061040" y="2494080"/>
              <a:ext cx="30240" cy="196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V="1">
              <a:off x="7091280" y="2444400"/>
              <a:ext cx="972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101000" y="2444760"/>
              <a:ext cx="2052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 flipV="1">
              <a:off x="7121520" y="2414160"/>
              <a:ext cx="9360" cy="79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130880" y="2414520"/>
              <a:ext cx="9720" cy="30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140600" y="2444760"/>
              <a:ext cx="3960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180200" y="2463840"/>
              <a:ext cx="972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V="1">
              <a:off x="7189920" y="2374920"/>
              <a:ext cx="9360" cy="147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199280" y="2374920"/>
              <a:ext cx="9720" cy="20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209000" y="2395440"/>
              <a:ext cx="20520" cy="138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V="1">
              <a:off x="7229520" y="2395440"/>
              <a:ext cx="30240" cy="138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259760" y="2395440"/>
              <a:ext cx="936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269120" y="2414520"/>
              <a:ext cx="190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 flipV="1">
              <a:off x="7288200" y="2306520"/>
              <a:ext cx="9360" cy="108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 flipV="1">
              <a:off x="7297560" y="2285640"/>
              <a:ext cx="11160" cy="20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 flipV="1">
              <a:off x="7308720" y="2226960"/>
              <a:ext cx="3816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346880" y="2227320"/>
              <a:ext cx="11160" cy="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358040" y="2236680"/>
              <a:ext cx="97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V="1">
              <a:off x="7367760" y="2217240"/>
              <a:ext cx="936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377120" y="2217600"/>
              <a:ext cx="19080" cy="108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396200" y="2325600"/>
              <a:ext cx="30240" cy="109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426440" y="2435400"/>
              <a:ext cx="9360" cy="37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435800" y="2473200"/>
              <a:ext cx="20520" cy="60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456320" y="2533680"/>
              <a:ext cx="972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 flipV="1">
              <a:off x="7466040" y="2503440"/>
              <a:ext cx="9360" cy="69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V="1">
              <a:off x="7475400" y="2404800"/>
              <a:ext cx="39960" cy="982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V="1">
              <a:off x="7515360" y="2395080"/>
              <a:ext cx="9360" cy="9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524720" y="2395440"/>
              <a:ext cx="9720" cy="147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V="1">
              <a:off x="7534440" y="2512800"/>
              <a:ext cx="10800" cy="298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V="1">
              <a:off x="7545240" y="2493720"/>
              <a:ext cx="1908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564320" y="2494080"/>
              <a:ext cx="3024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594560" y="2494080"/>
              <a:ext cx="9720" cy="108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V="1">
              <a:off x="7604280" y="2503440"/>
              <a:ext cx="18720" cy="98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623000" y="2503440"/>
              <a:ext cx="1116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634160" y="2592360"/>
              <a:ext cx="972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643880" y="2651040"/>
              <a:ext cx="39600" cy="208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683480" y="2671920"/>
              <a:ext cx="9720" cy="68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V="1">
              <a:off x="7693200" y="2641320"/>
              <a:ext cx="9360" cy="982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702560" y="2641680"/>
              <a:ext cx="9360" cy="48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V="1">
              <a:off x="7711920" y="2561760"/>
              <a:ext cx="11160" cy="128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23080" y="2562120"/>
              <a:ext cx="38160" cy="69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761240" y="2631960"/>
              <a:ext cx="1116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772400" y="2681280"/>
              <a:ext cx="19080" cy="79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V="1">
              <a:off x="7791480" y="2730600"/>
              <a:ext cx="9360" cy="30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00840" y="2730600"/>
              <a:ext cx="9720" cy="48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810560" y="2779560"/>
              <a:ext cx="39600" cy="39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V="1">
              <a:off x="7850160" y="2789280"/>
              <a:ext cx="11160" cy="30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V="1">
              <a:off x="7861320" y="2730240"/>
              <a:ext cx="9360" cy="586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7870680" y="2730600"/>
              <a:ext cx="972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880400" y="2749680"/>
              <a:ext cx="9360" cy="158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889760" y="2908440"/>
              <a:ext cx="39960" cy="489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 flipV="1">
              <a:off x="7929720" y="2927160"/>
              <a:ext cx="9360" cy="298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 flipV="1">
              <a:off x="7939080" y="2898720"/>
              <a:ext cx="9360" cy="28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V="1">
              <a:off x="7948440" y="2819520"/>
              <a:ext cx="20880" cy="792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969320" y="2819520"/>
              <a:ext cx="9360" cy="93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 flipV="1">
              <a:off x="7978680" y="2789280"/>
              <a:ext cx="39960" cy="39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8018640" y="2769840"/>
              <a:ext cx="936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8028000" y="2680920"/>
              <a:ext cx="9360" cy="88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8037360" y="2681280"/>
              <a:ext cx="111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V="1">
              <a:off x="8048520" y="2631600"/>
              <a:ext cx="9720" cy="493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8058240" y="2631960"/>
              <a:ext cx="39600" cy="19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8097840" y="2651040"/>
              <a:ext cx="9360" cy="60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V="1">
              <a:off x="8107200" y="2690640"/>
              <a:ext cx="9720" cy="208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 flipV="1">
              <a:off x="8116920" y="2671920"/>
              <a:ext cx="19080" cy="187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8136000" y="2671920"/>
              <a:ext cx="11160" cy="77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 flipV="1">
              <a:off x="8147160" y="2611440"/>
              <a:ext cx="28440" cy="1382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6" name=""/>
          <p:cNvSpPr/>
          <p:nvPr/>
        </p:nvSpPr>
        <p:spPr>
          <a:xfrm flipV="1">
            <a:off x="8175600" y="2582640"/>
            <a:ext cx="20520" cy="28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8196120" y="2583000"/>
            <a:ext cx="9720" cy="93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8205840" y="2592360"/>
            <a:ext cx="9360" cy="684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8215200" y="2660760"/>
            <a:ext cx="9720" cy="507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 flipV="1">
            <a:off x="8224920" y="2611440"/>
            <a:ext cx="39600" cy="1000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 flipV="1">
            <a:off x="8264520" y="2582640"/>
            <a:ext cx="9360" cy="28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8273880" y="2583000"/>
            <a:ext cx="11160" cy="8892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569880" y="5719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569880" y="5195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569880" y="4673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482760" y="4151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482760" y="36273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482760" y="31050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482760" y="25830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482760" y="20588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482760" y="15368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698760" y="59468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1419480" y="59468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149920" y="59468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5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2880000" y="59468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7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3608640" y="59468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4339080" y="59468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5069160" y="59468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5799600" y="59468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6528240" y="59468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5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7258320" y="59468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7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7979040" y="59468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452520" y="6399360"/>
            <a:ext cx="237960" cy="1440"/>
          </a:xfrm>
          <a:prstGeom prst="line">
            <a:avLst/>
          </a:prstGeom>
          <a:ln w="30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792000" y="631188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C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1390680" y="6399360"/>
            <a:ext cx="236520" cy="1440"/>
          </a:xfrm>
          <a:prstGeom prst="line">
            <a:avLst/>
          </a:prstGeom>
          <a:ln w="30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1775160" y="6311880"/>
            <a:ext cx="1410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J EUROSTOXX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3235320" y="6399360"/>
            <a:ext cx="236520" cy="1440"/>
          </a:xfrm>
          <a:prstGeom prst="line">
            <a:avLst/>
          </a:prstGeom>
          <a:ln w="30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3648960" y="6311880"/>
            <a:ext cx="200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W JONES INDUST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5691240" y="6399360"/>
            <a:ext cx="236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6115680" y="63118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KKEI 225 STOCK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344520" y="1398600"/>
            <a:ext cx="8315280" cy="51195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5207040" y="1693800"/>
            <a:ext cx="1440" cy="41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4813200" y="1398600"/>
            <a:ext cx="1390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4928400" y="1428840"/>
            <a:ext cx="93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1/12/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1985760" y="13921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6610320" y="13906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458640" y="6359400"/>
            <a:ext cx="257400" cy="85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1380960" y="6359400"/>
            <a:ext cx="257400" cy="85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5664240" y="6353280"/>
            <a:ext cx="282600" cy="8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3206880" y="6353280"/>
            <a:ext cx="295200" cy="85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07:47:53Z</dcterms:created>
  <dc:creator>CARMF</dc:creator>
  <dc:description/>
  <dc:language>en-US</dc:language>
  <cp:lastModifiedBy>MARLEIX</cp:lastModifiedBy>
  <cp:lastPrinted>2004-10-28T15:34:15Z</cp:lastPrinted>
  <dcterms:modified xsi:type="dcterms:W3CDTF">2004-10-29T09:14:38Z</dcterms:modified>
  <cp:revision>270</cp:revision>
  <dc:subject/>
  <dc:title>Aucun titre de diapositive</dc:title>
</cp:coreProperties>
</file>