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24640" y="6475320"/>
            <a:ext cx="17179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RMF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- 2004      </a:t>
            </a:r>
            <a:fld id="{E92AD034-D73C-427D-A8D5-CF0581B56B5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logocarmf%20seul%20fd%20transparent" descr=""/>
          <p:cNvPicPr/>
          <p:nvPr/>
        </p:nvPicPr>
        <p:blipFill>
          <a:blip r:embed="rId2"/>
          <a:stretch/>
        </p:blipFill>
        <p:spPr>
          <a:xfrm>
            <a:off x="50760" y="6545160"/>
            <a:ext cx="1046160" cy="2509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8197560" y="6365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51F-CB2E-4BBA-A4AE-BCB15D58D2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0920" y="3642840"/>
            <a:ext cx="602316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ésentation des placements immobili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7680" y="685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ée Générale des Délégu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6160" y="2782800"/>
            <a:ext cx="7859880" cy="5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62080" y="1639800"/>
            <a:ext cx="1819440" cy="4637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760" y="240840"/>
            <a:ext cx="893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épartition du patrimoine immobilier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 rapport à sa valeur vénale estimé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décembre 2003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4200" y="1719360"/>
            <a:ext cx="8593200" cy="750600"/>
            <a:chOff x="484200" y="1719360"/>
            <a:chExt cx="8593200" cy="750600"/>
          </a:xfrm>
        </p:grpSpPr>
        <p:graphicFrame>
          <p:nvGraphicFramePr>
            <p:cNvPr id="83" name=""/>
            <p:cNvGraphicFramePr/>
            <p:nvPr/>
          </p:nvGraphicFramePr>
          <p:xfrm>
            <a:off x="484200" y="1733400"/>
            <a:ext cx="1260360" cy="57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733400"/>
                      <a:ext cx="126036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1928880" y="1719360"/>
              <a:ext cx="7148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100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76 %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ureaux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70040" y="2552760"/>
            <a:ext cx="8307360" cy="755280"/>
            <a:chOff x="770040" y="2552760"/>
            <a:chExt cx="8307360" cy="755280"/>
          </a:xfrm>
        </p:grpSpPr>
        <p:graphicFrame>
          <p:nvGraphicFramePr>
            <p:cNvPr id="87" name=""/>
            <p:cNvGraphicFramePr/>
            <p:nvPr/>
          </p:nvGraphicFramePr>
          <p:xfrm>
            <a:off x="770040" y="2552760"/>
            <a:ext cx="482400" cy="741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040" y="2552760"/>
                      <a:ext cx="48240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928880" y="2557440"/>
              <a:ext cx="7148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100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fr-FR" sz="3600" spc="-1" strike="noStrike">
                  <a:solidFill>
                    <a:srgbClr val="0000ff"/>
                  </a:solidFill>
                  <a:latin typeface="Arial"/>
                </a:rPr>
                <a:t>19 %</a:t>
              </a:r>
              <a:r>
                <a:rPr b="1" lang="fr-FR" sz="36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Habitations &amp; parking</a:t>
              </a:r>
              <a:r>
                <a:rPr b="0" lang="fr-FR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62120" y="3429000"/>
            <a:ext cx="8315280" cy="1066680"/>
            <a:chOff x="762120" y="3429000"/>
            <a:chExt cx="8315280" cy="106668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62120" y="3429000"/>
              <a:ext cx="52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928880" y="3519360"/>
              <a:ext cx="7148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100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1" lang="fr-FR" sz="3600" spc="-1" strike="noStrike">
                  <a:solidFill>
                    <a:srgbClr val="0000ff"/>
                  </a:solidFill>
                  <a:latin typeface="Arial"/>
                </a:rPr>
                <a:t>4 %</a:t>
              </a:r>
              <a:r>
                <a:rPr b="1" lang="fr-FR" sz="3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Forê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3800" y="5421240"/>
            <a:ext cx="8620200" cy="860400"/>
            <a:chOff x="523800" y="5421240"/>
            <a:chExt cx="8620200" cy="860400"/>
          </a:xfrm>
        </p:grpSpPr>
        <p:pic>
          <p:nvPicPr>
            <p:cNvPr id="94" name="meudon" descr=""/>
            <p:cNvPicPr/>
            <p:nvPr/>
          </p:nvPicPr>
          <p:blipFill>
            <a:blip r:embed="rId6"/>
            <a:srcRect l="0" t="0" r="0" b="14005"/>
            <a:stretch/>
          </p:blipFill>
          <p:spPr>
            <a:xfrm>
              <a:off x="523800" y="5486400"/>
              <a:ext cx="12193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995480" y="5421240"/>
              <a:ext cx="714852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2100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0,40 %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ve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8200" y="4470480"/>
            <a:ext cx="8539200" cy="769680"/>
            <a:chOff x="538200" y="4470480"/>
            <a:chExt cx="8539200" cy="769680"/>
          </a:xfrm>
        </p:grpSpPr>
        <p:sp>
          <p:nvSpPr>
            <p:cNvPr id="97" name=""/>
            <p:cNvSpPr/>
            <p:nvPr/>
          </p:nvSpPr>
          <p:spPr>
            <a:xfrm>
              <a:off x="1928880" y="4470480"/>
              <a:ext cx="7148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100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0,60 %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arts de SCP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538200" y="4529160"/>
              <a:ext cx="1011240" cy="71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8200" y="177840"/>
            <a:ext cx="86806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c immobilier de la CARM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millions d’e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7040" y="1468440"/>
            <a:ext cx="8886960" cy="3211560"/>
            <a:chOff x="257040" y="1468440"/>
            <a:chExt cx="8886960" cy="3211560"/>
          </a:xfrm>
        </p:grpSpPr>
        <p:sp>
          <p:nvSpPr>
            <p:cNvPr id="101" name=""/>
            <p:cNvSpPr/>
            <p:nvPr/>
          </p:nvSpPr>
          <p:spPr>
            <a:xfrm>
              <a:off x="2744640" y="1468440"/>
              <a:ext cx="604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905120"/>
                  <a:tab algn="ctr" pos="3614760"/>
                  <a:tab algn="ctr" pos="5337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2003 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7040" y="2098800"/>
              <a:ext cx="8886960" cy="25812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fffcc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99"/>
                  </a:solidFill>
                  <a:latin typeface="Arial"/>
                </a:rPr>
                <a:t>Loyers encaissés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25,97</a:t>
              </a: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24,58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21,79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99"/>
                  </a:solidFill>
                  <a:latin typeface="Arial"/>
                </a:rPr>
                <a:t>Taux d’occupation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Boutiques &amp; Commerc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9,29 %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8,90 %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9,06 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619440"/>
                  <a:tab algn="ctr" pos="4562640"/>
                  <a:tab algn="ctr" pos="6289560"/>
                  <a:tab algn="ctr" pos="799632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abitations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2,42 %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2,60 %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2,85 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27080" y="4857840"/>
            <a:ext cx="9016920" cy="1133280"/>
            <a:chOff x="127080" y="4857840"/>
            <a:chExt cx="9016920" cy="1133280"/>
          </a:xfrm>
        </p:grpSpPr>
        <p:sp>
          <p:nvSpPr>
            <p:cNvPr id="104" name=""/>
            <p:cNvSpPr/>
            <p:nvPr/>
          </p:nvSpPr>
          <p:spPr>
            <a:xfrm>
              <a:off x="127080" y="4857840"/>
              <a:ext cx="3956040" cy="113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r" pos="2666880"/>
                  <a:tab algn="r" pos="438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aux de résultat net après impô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8160" y="5110200"/>
              <a:ext cx="49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192400"/>
                  <a:tab algn="ctr" pos="3898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4,65 %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,06 %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,24 %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ux de rendement annu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u parc immobilier CARM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1999 à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8560" y="3089160"/>
            <a:ext cx="8069400" cy="1854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>
              <a:lnSpc>
                <a:spcPct val="130000"/>
              </a:lnSpc>
              <a:tabLst>
                <a:tab algn="l" pos="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ux d’inflation annuel moy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>
              <a:lnSpc>
                <a:spcPct val="90000"/>
              </a:lnSpc>
              <a:tabLst>
                <a:tab algn="l" pos="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99-2003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,58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2960" y="4403880"/>
            <a:ext cx="8055000" cy="1836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>
              <a:lnSpc>
                <a:spcPct val="130000"/>
              </a:lnSpc>
              <a:tabLst>
                <a:tab algn="l" pos="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ux de rendement ré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,1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3880" y="2136600"/>
            <a:ext cx="8082000" cy="1836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>
              <a:lnSpc>
                <a:spcPct val="130000"/>
              </a:lnSpc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Taux de rendement interne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8,81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4T13:34:26Z</dcterms:created>
  <dc:creator>Gesnouin</dc:creator>
  <dc:description/>
  <dc:language>en-US</dc:language>
  <cp:lastModifiedBy>MARLEIX</cp:lastModifiedBy>
  <cp:lastPrinted>2004-10-05T14:14:22Z</cp:lastPrinted>
  <dcterms:modified xsi:type="dcterms:W3CDTF">2004-10-29T09:16:13Z</dcterms:modified>
  <cp:revision>565</cp:revision>
  <dc:subject/>
  <dc:title>REGIME DE BASE Cotisation 1996 - Deux parts</dc:title>
</cp:coreProperties>
</file>